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D4D-BBAC-4469-B937-9F7098AD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B52-7558-448C-A092-82DCB14D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8C2-37E9-4B66-9AEF-30D920E7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A08-F0D6-42C1-9C30-9EEA1A19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D76-8F45-4EAB-966B-CFADB15B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1C4-DE36-4508-9C61-557D4F3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680-480E-4BE4-92B1-708C028F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267-8E01-4C9B-BC57-3A6A085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3AB-EF62-42CB-94A2-BBEBF16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A36-7391-45A2-9398-6626D6F6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2E7-6C05-428F-BA41-1F84C0B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115-7878-46E6-A03D-B41A58C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FA7-E6B6-462D-976F-CD5A49C1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81280"/>
            <a:ext cx="38102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I DI 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2057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tess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3962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org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943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ture di cell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2860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63"/>
                </a:lnTo>
                <a:cubicBezTo>
                  <a:pt x="10800" y="9263"/>
                  <a:pt x="5400" y="10163"/>
                  <a:pt x="0" y="10163"/>
                </a:cubicBezTo>
                <a:cubicBezTo>
                  <a:pt x="5400" y="10163"/>
                  <a:pt x="10800" y="11063"/>
                  <a:pt x="10800" y="119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1800" y="6854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239920"/>
            <a:ext cx="4343400" cy="325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48640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LIEVO DI PARTE DELLA MEMBRANA FRAMMENT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8320" y="2201760"/>
            <a:ext cx="4419360" cy="3316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952880" y="55627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IZIONAMENTO DEI FRAMMENTI IN UNA CAPSULA PETRI PIC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495680" cy="3373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280" y="518940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TRIBUZIONE DEI FRAMMENTI NELLA CAPSULA PETRI PIC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83160" y="1913040"/>
            <a:ext cx="4484520" cy="33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76920" y="518940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RAMMENTI DISTRIBUITI UNIFORM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1406520"/>
            <a:ext cx="3962160" cy="2973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422928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IZIONAMENTO DEL VETRINO ROT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1332000"/>
            <a:ext cx="4419720" cy="2554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00600" y="3505320"/>
            <a:ext cx="41911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IMIN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E BOLLE D’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2000" y="4451400"/>
            <a:ext cx="4419720" cy="233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57913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GGIUNTA DEL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5867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BROBLASTI CRESCIUTI INTORNO AD UN FRAMMENTO DI TESS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ONE DI CRES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398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399280" cy="405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586728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BROBLASTI CRESCIUTI INTORNO AD UN FRAMMENTO DI TESS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560" y="7621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ONE DI CRES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59480" cy="4406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FIBR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FIBR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878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ELLULE ENDOTEL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487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19640" cy="4089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920" y="7617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ELLULE EPITEL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22920" cy="4822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00040" y="990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LINFOB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I DI CO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lture cell.ri prim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3623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lture cell.ri stabilizz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30481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Cari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Sene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1720" y="530856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Trasform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sponta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7339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Inibizione da                                   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8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Cari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8098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Inibizione da      contatto</a:t>
            </a:r>
            <a:r>
              <a:rPr b="1" lang="en-US" sz="2000" spc="-1" strike="noStrike">
                <a:solidFill>
                  <a:srgbClr val="2e20f9"/>
                </a:solidFill>
                <a:latin typeface="Comic Sans MS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Senesc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181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b07"/>
                </a:solidFill>
                <a:uFillTx/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ff0b07"/>
                </a:solidFill>
                <a:latin typeface="Comic Sans MS"/>
              </a:rPr>
              <a:t> Trasformazioni        sponta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017800">
            <a:off x="1333080" y="171432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b07"/>
              </a:gs>
              <a:gs pos="100000">
                <a:srgbClr val="ff0b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3087600">
            <a:off x="6210360" y="171432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b07"/>
              </a:gs>
              <a:gs pos="100000">
                <a:srgbClr val="ff0b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3920" y="685440"/>
            <a:ext cx="403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LTURE CELLU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1124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1295280"/>
            <a:ext cx="4800600" cy="2133720"/>
            <a:chOff x="762120" y="1295280"/>
            <a:chExt cx="4800600" cy="2133720"/>
          </a:xfrm>
        </p:grpSpPr>
        <p:sp>
          <p:nvSpPr>
            <p:cNvPr id="222" name=""/>
            <p:cNvSpPr/>
            <p:nvPr/>
          </p:nvSpPr>
          <p:spPr>
            <a:xfrm>
              <a:off x="762120" y="23623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liminazione del terreno di col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62120" y="1295280"/>
              <a:ext cx="3200400" cy="1067040"/>
              <a:chOff x="762120" y="1295280"/>
              <a:chExt cx="3200400" cy="1067040"/>
            </a:xfrm>
          </p:grpSpPr>
          <p:sp>
            <p:nvSpPr>
              <p:cNvPr id="224" name=""/>
              <p:cNvSpPr/>
              <p:nvPr/>
            </p:nvSpPr>
            <p:spPr>
              <a:xfrm>
                <a:off x="762120" y="1295280"/>
                <a:ext cx="32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giunta di colchici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09680" y="1828800"/>
                <a:ext cx="228600" cy="533520"/>
              </a:xfrm>
              <a:prstGeom prst="downArrow">
                <a:avLst>
                  <a:gd name="adj1" fmla="val 50000"/>
                  <a:gd name="adj2" fmla="val 583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209680" y="28954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62120" y="3429000"/>
            <a:ext cx="4647960" cy="1066680"/>
            <a:chOff x="762120" y="3429000"/>
            <a:chExt cx="4647960" cy="1066680"/>
          </a:xfrm>
        </p:grpSpPr>
        <p:sp>
          <p:nvSpPr>
            <p:cNvPr id="228" name=""/>
            <p:cNvSpPr/>
            <p:nvPr/>
          </p:nvSpPr>
          <p:spPr>
            <a:xfrm>
              <a:off x="762120" y="342900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ggiunta della soluzione ipoton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71600" y="39625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2120" y="4495680"/>
            <a:ext cx="1828800" cy="1526760"/>
            <a:chOff x="762120" y="4495680"/>
            <a:chExt cx="1828800" cy="1526760"/>
          </a:xfrm>
        </p:grpSpPr>
        <p:sp>
          <p:nvSpPr>
            <p:cNvPr id="231" name=""/>
            <p:cNvSpPr/>
            <p:nvPr/>
          </p:nvSpPr>
          <p:spPr>
            <a:xfrm>
              <a:off x="76212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fissag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55627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ssag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1600" y="502920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PREPARAZIONE DEL VE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38080" y="176364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EGGIO COL FLUOROCROMO MOSTARDA DI QUINAC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9736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ISI DELLE IMMAGIN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070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I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459080"/>
            <a:ext cx="838080" cy="2357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412560 h 2357280"/>
              <a:gd name="textAreaBottom" fmla="*/ 17092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40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06840"/>
            <a:ext cx="380880" cy="1524240"/>
          </a:xfrm>
          <a:prstGeom prst="downArrow">
            <a:avLst>
              <a:gd name="adj1" fmla="val 50000"/>
              <a:gd name="adj2" fmla="val 100047"/>
            </a:avLst>
          </a:prstGeom>
          <a:solidFill>
            <a:srgbClr val="340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830680"/>
            <a:ext cx="73152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SERVAZIONE AL MICROSCOPIO E ACQUI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OSSERVAZIONE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84440" y="175248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75248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14240" y="9903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ARIOTIPO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24280" y="59436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45,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336680"/>
            <a:ext cx="4422600" cy="4495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7200" y="58928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47,XX +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EMPI DI CARIOTIPI  ABOR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5410080" cy="5410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EMPIO CARIOTIPO ABOR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819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AFASE 92 X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858000" y="2362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6172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3200400" y="838080"/>
          <a:ext cx="5867280" cy="58039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CENTUALE DELLE ANOMA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A’ GESTAZIONALE (settima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dalla 2^-7^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dall’ 8^-12^ set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2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NOMALIE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D ETA’ GEST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600200" y="2895480"/>
          <a:ext cx="7192800" cy="3071880"/>
        </p:xfrm>
        <a:graphic>
          <a:graphicData uri="http://schemas.openxmlformats.org/drawingml/2006/table">
            <a:tbl>
              <a:tblPr/>
              <a:tblGrid>
                <a:gridCol w="1403280"/>
                <a:gridCol w="1401840"/>
                <a:gridCol w="1405080"/>
                <a:gridCol w="1403280"/>
                <a:gridCol w="157932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-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0" name=""/>
          <p:cNvGrpSpPr/>
          <p:nvPr/>
        </p:nvGrpSpPr>
        <p:grpSpPr>
          <a:xfrm>
            <a:off x="1523880" y="1981080"/>
            <a:ext cx="7315200" cy="824040"/>
            <a:chOff x="1523880" y="1981080"/>
            <a:chExt cx="7315200" cy="824040"/>
          </a:xfrm>
        </p:grpSpPr>
        <p:sp>
          <p:nvSpPr>
            <p:cNvPr id="291" name=""/>
            <p:cNvSpPr/>
            <p:nvPr/>
          </p:nvSpPr>
          <p:spPr>
            <a:xfrm>
              <a:off x="1523880" y="1981080"/>
              <a:ext cx="152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ETA’ MATERNA (ann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2057400"/>
              <a:ext cx="152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NUMERO DI CARIOTI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205740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ANOMAL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205740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TRISOM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38880" y="20574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6007a"/>
                  </a:solidFill>
                  <a:latin typeface="Comic Sans MS"/>
                </a:rPr>
                <a:t>% DI NON-TRISOM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FFETTO DELL’ETA’ 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819520" y="0"/>
            <a:ext cx="5562360" cy="580680"/>
            <a:chOff x="2819520" y="0"/>
            <a:chExt cx="5562360" cy="580680"/>
          </a:xfrm>
        </p:grpSpPr>
        <p:sp>
          <p:nvSpPr>
            <p:cNvPr id="303" name=""/>
            <p:cNvSpPr/>
            <p:nvPr/>
          </p:nvSpPr>
          <p:spPr>
            <a:xfrm>
              <a:off x="2819520" y="1522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ANOMAL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00600" y="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ABORTI SPONTANE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1522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f911"/>
                  </a:solidFill>
                  <a:latin typeface="Textile"/>
                </a:rPr>
                <a:t>NATI VI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2971800" y="685800"/>
          <a:ext cx="5532480" cy="5979960"/>
        </p:xfrm>
        <a:graphic>
          <a:graphicData uri="http://schemas.openxmlformats.org/drawingml/2006/table">
            <a:tbl>
              <a:tblPr/>
              <a:tblGrid>
                <a:gridCol w="1843200"/>
                <a:gridCol w="1844640"/>
                <a:gridCol w="1844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autoso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tris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lla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crom. sessu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ploi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e anom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.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ro dei carioti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167652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CONFRONTO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BORTI  E </a:t>
            </a:r>
            <a:br>
              <a:rPr sz="2800"/>
            </a:b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NATI V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1981080"/>
          <a:ext cx="5638680" cy="4529160"/>
        </p:xfrm>
        <a:graphic>
          <a:graphicData uri="http://schemas.openxmlformats.org/drawingml/2006/table">
            <a:tbl>
              <a:tblPr/>
              <a:tblGrid>
                <a:gridCol w="2832120"/>
                <a:gridCol w="28065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gli autos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traploi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ploi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osomie dell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degli autos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aicis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arrangiamenti struttur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omie dei cromos.  sessu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18288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OM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447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 di MORTE PRENA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ESITI DELLE ANOMALIE CROMOSO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828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7"/>
                </a:solidFill>
                <a:latin typeface="Comic Sans MS"/>
              </a:rPr>
              <a:t>EMBR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2438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O ALLA 11° SETTIM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 AMENOR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7"/>
                </a:solidFill>
                <a:latin typeface="Textile"/>
              </a:rPr>
              <a:t>    </a:t>
            </a:r>
            <a:r>
              <a:rPr b="0" lang="en-US" sz="2400" spc="-1" strike="noStrike">
                <a:solidFill>
                  <a:srgbClr val="ff0b07"/>
                </a:solidFill>
                <a:latin typeface="Textile"/>
              </a:rPr>
              <a:t>F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45720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xtile"/>
              </a:rPr>
              <a:t>DALLA 12° SETTIMANA DI AMENORREA (iniziano i       processi di ossific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43440" y="1386000"/>
            <a:ext cx="5060880" cy="518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DISTINZIONE TRA EMBRIONE E F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57913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99280" cy="406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5399280" cy="40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862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7617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6019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MERA GESTAZIONALE E SACCO VITELL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57400" y="1816200"/>
            <a:ext cx="5398920" cy="4051080"/>
            <a:chOff x="2057400" y="1816200"/>
            <a:chExt cx="5398920" cy="40510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057400" y="1816200"/>
              <a:ext cx="539892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95680" y="2501640"/>
              <a:ext cx="0" cy="838080"/>
            </a:xfrm>
            <a:prstGeom prst="line">
              <a:avLst/>
            </a:prstGeom>
            <a:ln w="38160">
              <a:solidFill>
                <a:srgbClr val="340d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797280"/>
              <a:ext cx="76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989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5943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LIEVO DI UN PICCOLO FRAMMENTO DI 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7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7480" y="1371600"/>
            <a:ext cx="4484520" cy="336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4998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IMINAZIONE DEI VI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7560" y="1371600"/>
            <a:ext cx="4495680" cy="3373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29200" y="4876920"/>
            <a:ext cx="35053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BRANA PARZIAL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VA DEI VI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" y="15732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54100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AMMENTAZIONE DI UN PICCOLO PEZZO DI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21240" y="15732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7"/>
                </a:solidFill>
                <a:latin typeface="Comic Sans MS"/>
              </a:rPr>
              <a:t>ALLESTIMENTO DELLE CO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27:09Z</dcterms:created>
  <dc:creator>Bo</dc:creator>
  <dc:description/>
  <dc:language>en-US</dc:language>
  <cp:lastModifiedBy>Rocchi</cp:lastModifiedBy>
  <cp:lastPrinted>2002-11-18T15:32:41Z</cp:lastPrinted>
  <dcterms:modified xsi:type="dcterms:W3CDTF">2003-02-03T10:32:35Z</dcterms:modified>
  <cp:revision>270</cp:revision>
  <dc:subject/>
  <dc:title>ANALISI CITOGENETICA DI 100 ABORTI SPONTANEI UMANI NEL PRIMO TRIMESTRE DI GRAVIDANZA</dc:title>
</cp:coreProperties>
</file>