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600" y="2362320"/>
            <a:ext cx="8115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03297"/>
                </a:solidFill>
                <a:latin typeface="Palatino"/>
              </a:rPr>
              <a:t>CITOGENETICA</a:t>
            </a:r>
            <a:br>
              <a:rPr sz="4400"/>
            </a:br>
            <a:r>
              <a:rPr b="1" lang="en-US" sz="4400" spc="-1" strike="noStrike">
                <a:solidFill>
                  <a:srgbClr val="303297"/>
                </a:solidFill>
                <a:latin typeface="Palatino"/>
              </a:rPr>
              <a:t>&amp; </a:t>
            </a:r>
            <a:br>
              <a:rPr sz="4400"/>
            </a:br>
            <a:r>
              <a:rPr b="1" lang="en-US" sz="4400" spc="-1" strike="noStrike">
                <a:solidFill>
                  <a:srgbClr val="303297"/>
                </a:solidFill>
                <a:latin typeface="Palatino"/>
              </a:rPr>
              <a:t>BIOINFORMAT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1222200" y="1600200"/>
            <a:ext cx="1063800" cy="106668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901880"/>
            <a:ext cx="3429000" cy="38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03297"/>
                </a:solidFill>
                <a:latin typeface="Palatino"/>
              </a:rPr>
              <a:t>Diagnosi citogenetica: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303297"/>
                </a:solidFill>
                <a:latin typeface="Palatino"/>
              </a:rPr>
              <a:t>LMC individuata </a:t>
            </a:r>
            <a:br>
              <a:rPr sz="2000"/>
            </a:br>
            <a:r>
              <a:rPr b="0" lang="en-US" sz="2000" spc="-1" strike="noStrike">
                <a:solidFill>
                  <a:srgbClr val="303297"/>
                </a:solidFill>
                <a:latin typeface="Palatino"/>
              </a:rPr>
              <a:t>tramite tecnica FISH, </a:t>
            </a:r>
            <a:br>
              <a:rPr sz="2000"/>
            </a:br>
            <a:r>
              <a:rPr b="0" i="1" lang="en-US" sz="2000" spc="-1" strike="noStrike">
                <a:solidFill>
                  <a:srgbClr val="303297"/>
                </a:solidFill>
                <a:latin typeface="Palatino"/>
              </a:rPr>
              <a:t>split</a:t>
            </a:r>
            <a:r>
              <a:rPr b="0" lang="en-US" sz="2000" spc="-1" strike="noStrike">
                <a:solidFill>
                  <a:srgbClr val="303297"/>
                </a:solidFill>
                <a:latin typeface="Palatino"/>
              </a:rPr>
              <a:t> di ABL da traslocazione (9/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rcRect l="14217" t="14104" r="5233" b="39750"/>
          <a:stretch/>
        </p:blipFill>
        <p:spPr>
          <a:xfrm>
            <a:off x="3733920" y="3733920"/>
            <a:ext cx="5181480" cy="2743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rcRect l="5265" t="14705" r="8775" b="11772"/>
          <a:stretch/>
        </p:blipFill>
        <p:spPr>
          <a:xfrm>
            <a:off x="4419720" y="7621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Strategia 1:</a:t>
            </a:r>
            <a:br>
              <a:rPr sz="2400"/>
            </a:b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Metodica sperimentale di sele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1905120"/>
            <a:ext cx="8839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30329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03297"/>
                </a:solidFill>
                <a:latin typeface="Times New Roman"/>
              </a:rPr>
              <a:t>Individuare i BAC che coprono le regioni d’interes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0329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0329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03297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303297"/>
                </a:solidFill>
                <a:latin typeface="Times New Roman"/>
              </a:rPr>
              <a:t>Per rintracciare il segmento genomico che contiene il gene si cercano i geni ABL e BCR in ogni clone batterico della “libreria genomica” con una PCR: occorre progettare i primer e amplificare il DNA per ogni </a:t>
            </a:r>
            <a:r>
              <a:rPr b="0" i="1" lang="it-IT" sz="1800" spc="-1" strike="noStrike">
                <a:solidFill>
                  <a:srgbClr val="303297"/>
                </a:solidFill>
                <a:latin typeface="Times New Roman"/>
              </a:rPr>
              <a:t>locus</a:t>
            </a:r>
            <a:r>
              <a:rPr b="0" lang="it-IT" sz="1800" spc="-1" strike="noStrike">
                <a:solidFill>
                  <a:srgbClr val="303297"/>
                </a:solidFill>
                <a:latin typeface="Times New Roman"/>
              </a:rPr>
              <a:t> d’interes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rcRect l="0" t="0" r="0" b="35107"/>
          <a:stretch/>
        </p:blipFill>
        <p:spPr>
          <a:xfrm>
            <a:off x="1752480" y="4317840"/>
            <a:ext cx="66294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4148280" cy="44956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rcRect l="0" t="11873" r="39027" b="32205"/>
          <a:stretch/>
        </p:blipFill>
        <p:spPr>
          <a:xfrm>
            <a:off x="4495680" y="1676520"/>
            <a:ext cx="4496040" cy="44956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010520" y="577800"/>
            <a:ext cx="692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416c8"/>
                </a:solidFill>
                <a:latin typeface="Times New Roman"/>
              </a:rPr>
              <a:t>Rischio di non “coprire” il riarrangiam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416c8"/>
                </a:solidFill>
                <a:latin typeface="Times New Roman"/>
              </a:rPr>
              <a:t>ottimizzazione della scelta della s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76800" y="617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990720" y="6094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03297"/>
                </a:solidFill>
                <a:latin typeface="Palatino"/>
              </a:rPr>
              <a:t>2. </a:t>
            </a:r>
            <a:r>
              <a:rPr b="1" lang="it-IT" sz="2000" spc="-1" strike="noStrike">
                <a:solidFill>
                  <a:srgbClr val="303297"/>
                </a:solidFill>
                <a:latin typeface="Palatino"/>
              </a:rPr>
              <a:t>	</a:t>
            </a:r>
            <a:r>
              <a:rPr b="1" lang="it-IT" sz="2000" spc="-1" strike="noStrike">
                <a:solidFill>
                  <a:srgbClr val="303297"/>
                </a:solidFill>
                <a:latin typeface="Palatino"/>
              </a:rPr>
              <a:t>fare lo screening delle librerie di BAC con i primer scel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9680" y="1600200"/>
            <a:ext cx="170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i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4 PC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676520" y="1600200"/>
            <a:ext cx="3371400" cy="3508200"/>
            <a:chOff x="1676520" y="1600200"/>
            <a:chExt cx="3371400" cy="3508200"/>
          </a:xfrm>
        </p:grpSpPr>
        <p:sp>
          <p:nvSpPr>
            <p:cNvPr id="380" name=""/>
            <p:cNvSpPr/>
            <p:nvPr/>
          </p:nvSpPr>
          <p:spPr>
            <a:xfrm>
              <a:off x="3032280" y="160020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re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condario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+16 PC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1676520" y="2286000"/>
              <a:ext cx="2705040" cy="2822400"/>
              <a:chOff x="1676520" y="2286000"/>
              <a:chExt cx="2705040" cy="28224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2400480" y="2286000"/>
                <a:ext cx="1981080" cy="2822400"/>
                <a:chOff x="2400480" y="2286000"/>
                <a:chExt cx="1981080" cy="28224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2400480" y="2286000"/>
                  <a:ext cx="1981080" cy="2822400"/>
                  <a:chOff x="2400480" y="2286000"/>
                  <a:chExt cx="1981080" cy="282240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2400480" y="31240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314880" y="2286000"/>
                    <a:ext cx="1066680" cy="2822400"/>
                    <a:chOff x="3314880" y="2286000"/>
                    <a:chExt cx="1066680" cy="282240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3314880" y="2438280"/>
                      <a:ext cx="0" cy="2438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3314880" y="24382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3314880" y="259092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3314880" y="304812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331488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3314880" y="28954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3314880" y="32004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3314880" y="33526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3314880" y="350532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3314880" y="3657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3314880" y="38098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3314880" y="396252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3314880" y="41148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3314880" y="42670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3314880" y="441972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3314880" y="45720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3314880" y="47242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3314880" y="487692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4152960" y="4343400"/>
                      <a:ext cx="228600" cy="76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3772800" y="2286000"/>
                      <a:ext cx="372600" cy="268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3654360" y="4651200"/>
                      <a:ext cx="184320" cy="45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07" name=""/>
                <p:cNvSpPr/>
                <p:nvPr/>
              </p:nvSpPr>
              <p:spPr>
                <a:xfrm>
                  <a:off x="4152960" y="3886200"/>
                  <a:ext cx="228600" cy="76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 flipH="1">
                <a:off x="1676520" y="312408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1841400" y="3124080"/>
              <a:ext cx="138456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 piast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lla libreria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640" y="2362320"/>
            <a:ext cx="1591560" cy="3748680"/>
            <a:chOff x="8640" y="2362320"/>
            <a:chExt cx="1591560" cy="3748680"/>
          </a:xfrm>
        </p:grpSpPr>
        <p:grpSp>
          <p:nvGrpSpPr>
            <p:cNvPr id="411" name=""/>
            <p:cNvGrpSpPr/>
            <p:nvPr/>
          </p:nvGrpSpPr>
          <p:grpSpPr>
            <a:xfrm>
              <a:off x="986040" y="2362320"/>
              <a:ext cx="614160" cy="3748680"/>
              <a:chOff x="986040" y="2362320"/>
              <a:chExt cx="614160" cy="3748680"/>
            </a:xfrm>
          </p:grpSpPr>
          <p:sp>
            <p:nvSpPr>
              <p:cNvPr id="412" name=""/>
              <p:cNvSpPr/>
              <p:nvPr/>
            </p:nvSpPr>
            <p:spPr>
              <a:xfrm>
                <a:off x="986040" y="2362320"/>
                <a:ext cx="307080" cy="374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71600" y="3060720"/>
                <a:ext cx="22860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371600" y="3505320"/>
                <a:ext cx="228600" cy="759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71600" y="5181480"/>
                <a:ext cx="22860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8640" y="4038480"/>
              <a:ext cx="9763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4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495680" y="1600200"/>
            <a:ext cx="2985840" cy="3916440"/>
            <a:chOff x="4495680" y="1600200"/>
            <a:chExt cx="2985840" cy="3916440"/>
          </a:xfrm>
        </p:grpSpPr>
        <p:sp>
          <p:nvSpPr>
            <p:cNvPr id="418" name=""/>
            <p:cNvSpPr/>
            <p:nvPr/>
          </p:nvSpPr>
          <p:spPr>
            <a:xfrm>
              <a:off x="5723280" y="1600200"/>
              <a:ext cx="175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re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rziario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+20 PC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4910040" y="2286000"/>
              <a:ext cx="2057400" cy="3139560"/>
              <a:chOff x="4910040" y="2286000"/>
              <a:chExt cx="2057400" cy="3139560"/>
            </a:xfrm>
          </p:grpSpPr>
          <p:sp>
            <p:nvSpPr>
              <p:cNvPr id="420" name=""/>
              <p:cNvSpPr/>
              <p:nvPr/>
            </p:nvSpPr>
            <p:spPr>
              <a:xfrm>
                <a:off x="4910040" y="396252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977080" y="2438280"/>
                <a:ext cx="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977080" y="2590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977080" y="2743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97708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977080" y="2895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977080" y="30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77080" y="3352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77080" y="3505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977080" y="3657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977080" y="3809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77080" y="3962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77080" y="4114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9770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9770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977080" y="4572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977080" y="4724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977080" y="4876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977080" y="5029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38840" y="4495680"/>
                <a:ext cx="22860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35360" y="2286000"/>
                <a:ext cx="308880" cy="31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16560" y="48038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977080" y="24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977080" y="5181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977080" y="5334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738840" y="3124080"/>
                <a:ext cx="22860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4871880" y="3962520"/>
              <a:ext cx="1054080" cy="15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 righe e 8 colonn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 spot sulla piastra 8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9568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010280" y="1600200"/>
            <a:ext cx="2036880" cy="2910960"/>
            <a:chOff x="7010280" y="1600200"/>
            <a:chExt cx="2036880" cy="2910960"/>
          </a:xfrm>
        </p:grpSpPr>
        <p:sp>
          <p:nvSpPr>
            <p:cNvPr id="449" name=""/>
            <p:cNvSpPr/>
            <p:nvPr/>
          </p:nvSpPr>
          <p:spPr>
            <a:xfrm>
              <a:off x="7633800" y="1600200"/>
              <a:ext cx="141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re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nale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+4 PC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96320" y="310824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96320" y="32608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96320" y="341316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07000" y="2803680"/>
              <a:ext cx="5115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AC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AC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AC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A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96320" y="295596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758080" y="2879640"/>
              <a:ext cx="2286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96320" y="29559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8192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8880" y="3200400"/>
              <a:ext cx="641520" cy="131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 clon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llo sp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010280" y="3200400"/>
              <a:ext cx="228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2949480" y="571500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023"/>
                </a:solidFill>
                <a:latin typeface="Times New Roman"/>
              </a:rPr>
              <a:t>Totale: minimo 64 PCR x individuare 1 B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4320" y="1166760"/>
            <a:ext cx="83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d0023"/>
                </a:solidFill>
                <a:latin typeface="Palatino"/>
              </a:rPr>
              <a:t>24 libreria genomica con un totale di oltre 140.000 cloni: 140.000 PCR x BAC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90720" y="6094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03297"/>
                </a:solidFill>
                <a:latin typeface="Palatino"/>
              </a:rPr>
              <a:t>3.    verificare la posizione di mappa dei cloni mediante F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rcRect l="4165" t="0" r="5835" b="39458"/>
          <a:stretch/>
        </p:blipFill>
        <p:spPr>
          <a:xfrm>
            <a:off x="2514600" y="1130400"/>
            <a:ext cx="4114800" cy="3975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73160" y="5389560"/>
            <a:ext cx="84103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Tesi di laurea dell’aa 1998-9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Tempo totale 1 anno, analizzati </a:t>
            </a:r>
            <a:r>
              <a:rPr b="1" lang="it-IT" sz="1800" spc="-1" strike="noStrike">
                <a:solidFill>
                  <a:srgbClr val="303297"/>
                </a:solidFill>
                <a:latin typeface="Palatino"/>
              </a:rPr>
              <a:t>5 geni</a:t>
            </a: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 chimerici different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quindi circa </a:t>
            </a:r>
            <a:r>
              <a:rPr b="1" lang="it-IT" sz="1800" spc="-1" strike="noStrike">
                <a:solidFill>
                  <a:srgbClr val="fd0023"/>
                </a:solidFill>
                <a:latin typeface="Palatino"/>
              </a:rPr>
              <a:t>2 mesi e mezzo per ogni gene</a:t>
            </a: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4308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416c8"/>
                </a:solidFill>
                <a:latin typeface="Palatino"/>
              </a:rPr>
              <a:t>Strategia 2: </a:t>
            </a:r>
            <a:br>
              <a:rPr sz="2800"/>
            </a:br>
            <a:r>
              <a:rPr b="1" lang="it-IT" sz="2800" spc="-1" strike="noStrike">
                <a:solidFill>
                  <a:srgbClr val="1416c8"/>
                </a:solidFill>
                <a:latin typeface="Palatino"/>
              </a:rPr>
              <a:t>bioinformatica e sperimentale (2002-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2597040"/>
            <a:ext cx="89154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03297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03297"/>
                </a:solidFill>
                <a:latin typeface="Palatino"/>
              </a:rPr>
              <a:t>acquisire informazioni sui geni d’interesse, consultando la casistica riportata nel sito ATLAS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03297"/>
              </a:buClr>
              <a:buFont typeface="Palatino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03297"/>
                </a:solidFill>
                <a:latin typeface="Palatino"/>
              </a:rPr>
              <a:t>consultare database </a:t>
            </a:r>
            <a:r>
              <a:rPr b="1" i="1" lang="it-IT" sz="1400" spc="-1" strike="noStrike">
                <a:solidFill>
                  <a:srgbClr val="303297"/>
                </a:solidFill>
                <a:latin typeface="Palatino"/>
              </a:rPr>
              <a:t>online</a:t>
            </a:r>
            <a:r>
              <a:rPr b="1" lang="it-IT" sz="1400" spc="-1" strike="noStrike">
                <a:solidFill>
                  <a:srgbClr val="303297"/>
                </a:solidFill>
                <a:latin typeface="Palatino"/>
              </a:rPr>
              <a:t> (UCSC , NCBI , ENSEMBL) per la scelta dei BAC da utilizzare come so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03297"/>
              </a:buClr>
              <a:buFont typeface="Palatino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03297"/>
                </a:solidFill>
                <a:latin typeface="Palatino"/>
              </a:rPr>
              <a:t>verificare la posizione di mappa dei cloni mediante F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03297"/>
                </a:solidFill>
                <a:latin typeface="Palatino"/>
              </a:rPr>
              <a:t>	</a:t>
            </a:r>
            <a:r>
              <a:rPr b="0" lang="it-IT" sz="2400" spc="-1" strike="noStrike">
                <a:solidFill>
                  <a:srgbClr val="303297"/>
                </a:solidFill>
                <a:latin typeface="Palatino"/>
              </a:rPr>
              <a:t>Tempo totale: 1 anno per analizzare 105 geni chimerici differenti quindi circa</a:t>
            </a:r>
            <a:r>
              <a:rPr b="0" lang="it-IT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it-IT" sz="2400" spc="-1" strike="noStrike">
                <a:solidFill>
                  <a:srgbClr val="ca0000"/>
                </a:solidFill>
                <a:latin typeface="Palatino"/>
              </a:rPr>
              <a:t>3 giorni per gen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3080" y="1752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03297"/>
                </a:solidFill>
                <a:latin typeface="Palatino"/>
              </a:rPr>
              <a:t>Individuazione di BAC specifici per i geni BCR e AB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43080" y="8380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416c8"/>
                </a:solidFill>
                <a:latin typeface="Times New Roman"/>
              </a:rPr>
              <a:t>Strategia 2: </a:t>
            </a:r>
            <a:br>
              <a:rPr sz="2800"/>
            </a:br>
            <a:r>
              <a:rPr b="1" lang="it-IT" sz="2800" spc="-1" strike="noStrike">
                <a:solidFill>
                  <a:srgbClr val="1416c8"/>
                </a:solidFill>
                <a:latin typeface="Times New Roman"/>
              </a:rPr>
              <a:t>bioinformatica e speriment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281952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Acquisire informazioni sui geni d’interes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consultando la casistica riportata nel sito ATL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http://www.infobiogen.fr/services/chromcanc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43080" y="8380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416c8"/>
                </a:solidFill>
                <a:latin typeface="Times New Roman"/>
              </a:rPr>
              <a:t>Strategia 2: </a:t>
            </a:r>
            <a:br>
              <a:rPr sz="2800"/>
            </a:br>
            <a:r>
              <a:rPr b="1" lang="it-IT" sz="2800" spc="-1" strike="noStrike">
                <a:solidFill>
                  <a:srgbClr val="1416c8"/>
                </a:solidFill>
                <a:latin typeface="Times New Roman"/>
              </a:rPr>
              <a:t>bioinformatica e speriment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27432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Consultare banche dati </a:t>
            </a:r>
            <a:r>
              <a:rPr b="1" i="1" lang="it-IT" sz="2400" spc="-1" strike="noStrike">
                <a:solidFill>
                  <a:srgbClr val="303297"/>
                </a:solidFill>
                <a:latin typeface="Times New Roman"/>
              </a:rPr>
              <a:t>online</a:t>
            </a: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 (UCSC , NCBI , ENSEMB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per la scelta dei BAC da utilizzare come s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297"/>
                </a:solidFill>
                <a:latin typeface="Times New Roman"/>
              </a:rPr>
              <a:t>http://genome.ucsc.edu/cgi-bin/hgGateway?db=hg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43080" y="8380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416c8"/>
                </a:solidFill>
                <a:latin typeface="Times New Roman"/>
              </a:rPr>
              <a:t>Strategia 2: </a:t>
            </a:r>
            <a:br>
              <a:rPr sz="2800"/>
            </a:br>
            <a:r>
              <a:rPr b="1" lang="it-IT" sz="2800" spc="-1" strike="noStrike">
                <a:solidFill>
                  <a:srgbClr val="1416c8"/>
                </a:solidFill>
                <a:latin typeface="Times New Roman"/>
              </a:rPr>
              <a:t>bioinformatica e speriment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2743200"/>
            <a:ext cx="89154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Verificare la posizione di map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03297"/>
                </a:solidFill>
                <a:latin typeface="Times New Roman"/>
              </a:rPr>
              <a:t>dei cloni mediante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303297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303297"/>
                </a:solidFill>
                <a:uFillTx/>
                <a:latin typeface="Times New Roman"/>
              </a:rPr>
              <a:t>http://www.biologia.uniba.it/rmc/TUMORS/project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rcRect l="37625" t="0" r="0" b="0"/>
          <a:stretch/>
        </p:blipFill>
        <p:spPr>
          <a:xfrm>
            <a:off x="0" y="455760"/>
            <a:ext cx="4800600" cy="64022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rcRect l="0" t="0" r="63367" b="35731"/>
          <a:stretch/>
        </p:blipFill>
        <p:spPr>
          <a:xfrm>
            <a:off x="5715000" y="1523880"/>
            <a:ext cx="2819520" cy="41148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762120" y="3776760"/>
            <a:ext cx="330120" cy="109440"/>
          </a:xfrm>
          <a:prstGeom prst="rect">
            <a:avLst/>
          </a:prstGeom>
          <a:solidFill>
            <a:srgbClr val="ca0000"/>
          </a:solidFill>
          <a:ln w="9360">
            <a:solidFill>
              <a:srgbClr val="fd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3886200"/>
            <a:ext cx="330120" cy="76320"/>
          </a:xfrm>
          <a:prstGeom prst="rect">
            <a:avLst/>
          </a:prstGeom>
          <a:solidFill>
            <a:srgbClr val="ca0000"/>
          </a:solidFill>
          <a:ln w="9360">
            <a:solidFill>
              <a:srgbClr val="fd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4411800"/>
            <a:ext cx="330120" cy="75960"/>
          </a:xfrm>
          <a:prstGeom prst="rect">
            <a:avLst/>
          </a:prstGeom>
          <a:solidFill>
            <a:srgbClr val="ca0000"/>
          </a:solidFill>
          <a:ln w="9360">
            <a:solidFill>
              <a:srgbClr val="fd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86200" y="4419720"/>
            <a:ext cx="330120" cy="75960"/>
          </a:xfrm>
          <a:prstGeom prst="rect">
            <a:avLst/>
          </a:prstGeom>
          <a:solidFill>
            <a:srgbClr val="ca0000"/>
          </a:solidFill>
          <a:ln w="9360">
            <a:solidFill>
              <a:srgbClr val="fd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3325680"/>
            <a:ext cx="330120" cy="127080"/>
          </a:xfrm>
          <a:prstGeom prst="rect">
            <a:avLst/>
          </a:prstGeom>
          <a:solidFill>
            <a:srgbClr val="ca0000"/>
          </a:solidFill>
          <a:ln w="9360">
            <a:solidFill>
              <a:srgbClr val="fd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3308400"/>
            <a:ext cx="330120" cy="76320"/>
          </a:xfrm>
          <a:prstGeom prst="rect">
            <a:avLst/>
          </a:prstGeom>
          <a:solidFill>
            <a:srgbClr val="ca0000"/>
          </a:solidFill>
          <a:ln w="9360">
            <a:solidFill>
              <a:srgbClr val="fd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30440" y="60948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7"/>
                </a:solidFill>
                <a:latin typeface="Palatino"/>
              </a:rPr>
              <a:t>I BAC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7"/>
                </a:solidFill>
                <a:latin typeface="Palatino"/>
              </a:rPr>
              <a:t>gli studi evolu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461600"/>
            <a:ext cx="35053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6c7"/>
                </a:solidFill>
                <a:latin typeface="Palatino"/>
              </a:rPr>
              <a:t>Oncologia</a:t>
            </a:r>
            <a:r>
              <a:rPr b="0" lang="en-US" sz="2800" spc="-1" strike="noStrike">
                <a:solidFill>
                  <a:srgbClr val="1416c7"/>
                </a:solidFill>
                <a:latin typeface="Palatino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1416c7"/>
                </a:solidFill>
                <a:latin typeface="Palatino"/>
              </a:rPr>
              <a:t>(diagnostica tumorale </a:t>
            </a:r>
            <a:br>
              <a:rPr sz="2400"/>
            </a:br>
            <a:r>
              <a:rPr b="0" lang="en-US" sz="2400" spc="-1" strike="noStrike">
                <a:solidFill>
                  <a:srgbClr val="1416c7"/>
                </a:solidFill>
                <a:latin typeface="Palatino"/>
              </a:rPr>
              <a:t>e ricerca di oncoge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403848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5c4"/>
                </a:solidFill>
                <a:latin typeface="Palatino"/>
              </a:rPr>
              <a:t>Utilizzo di sonde molecolari per il riconoscimento di loci d’inter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1520" y="5546880"/>
            <a:ext cx="82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a0000"/>
                </a:solidFill>
                <a:latin typeface="Palatino"/>
              </a:rPr>
              <a:t>Come scegliere le sonde miglior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4920" y="1859040"/>
            <a:ext cx="4204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6c7"/>
                </a:solidFill>
                <a:latin typeface="Palatino"/>
              </a:rPr>
              <a:t>Evoluzione </a:t>
            </a:r>
            <a:br>
              <a:rPr sz="2800"/>
            </a:br>
            <a:r>
              <a:rPr b="0" lang="en-US" sz="2400" spc="-1" strike="noStrike">
                <a:solidFill>
                  <a:srgbClr val="1416c7"/>
                </a:solidFill>
                <a:latin typeface="Palatino"/>
              </a:rPr>
              <a:t>(genomica compara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6200" y="1050840"/>
            <a:ext cx="315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15c4"/>
                </a:solidFill>
                <a:latin typeface="Palatino"/>
              </a:rPr>
              <a:t>CITOGENETIC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114800" y="2209680"/>
            <a:ext cx="914400" cy="1811520"/>
            <a:chOff x="4114800" y="2209680"/>
            <a:chExt cx="914400" cy="1811520"/>
          </a:xfrm>
        </p:grpSpPr>
        <p:sp>
          <p:nvSpPr>
            <p:cNvPr id="47" name=""/>
            <p:cNvSpPr/>
            <p:nvPr/>
          </p:nvSpPr>
          <p:spPr>
            <a:xfrm>
              <a:off x="4114800" y="2209680"/>
              <a:ext cx="914400" cy="381240"/>
            </a:xfrm>
            <a:prstGeom prst="leftRightArrow">
              <a:avLst>
                <a:gd name="adj1" fmla="val 50000"/>
                <a:gd name="adj2" fmla="val 47748"/>
              </a:avLst>
            </a:prstGeom>
            <a:solidFill>
              <a:srgbClr val="ca0000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94160" y="2496960"/>
              <a:ext cx="380880" cy="1524240"/>
            </a:xfrm>
            <a:prstGeom prst="downArrow">
              <a:avLst>
                <a:gd name="adj1" fmla="val 50000"/>
                <a:gd name="adj2" fmla="val 66698"/>
              </a:avLst>
            </a:prstGeom>
            <a:solidFill>
              <a:srgbClr val="ca0000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11599" t="6542" r="17904" b="52269"/>
          <a:stretch/>
        </p:blipFill>
        <p:spPr>
          <a:xfrm>
            <a:off x="457200" y="2971800"/>
            <a:ext cx="3809880" cy="3556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297"/>
                </a:solidFill>
                <a:latin typeface="Palatino"/>
              </a:rPr>
              <a:t>Un esempio pratico: la Leucemia Mieloide Cro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297"/>
                </a:solidFill>
                <a:latin typeface="Palatino"/>
              </a:rPr>
              <a:t>95% dei casi formazione di un cromosoma “Philadelphia” (19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03297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297"/>
                </a:solidFill>
                <a:latin typeface="Palatino"/>
              </a:rPr>
              <a:t>definizione citogenetica dell’evento macroscopic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297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303297"/>
                </a:solidFill>
                <a:latin typeface="Palatino"/>
              </a:rPr>
              <a:t>traslocazione reciproca fra 22q11 e 9q34 (198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978800" y="2733840"/>
            <a:ext cx="1422000" cy="3057480"/>
            <a:chOff x="4978800" y="2733840"/>
            <a:chExt cx="1422000" cy="30574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rcRect l="7913" t="11462" r="61587" b="20962"/>
            <a:stretch/>
          </p:blipFill>
          <p:spPr>
            <a:xfrm>
              <a:off x="5029200" y="3048120"/>
              <a:ext cx="13716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978800" y="27338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AB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89800" y="32162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BC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502320" y="2743200"/>
            <a:ext cx="2455920" cy="3429000"/>
            <a:chOff x="6502320" y="2743200"/>
            <a:chExt cx="2455920" cy="3429000"/>
          </a:xfrm>
        </p:grpSpPr>
        <p:pic>
          <p:nvPicPr>
            <p:cNvPr id="56" name="" descr=""/>
            <p:cNvPicPr/>
            <p:nvPr/>
          </p:nvPicPr>
          <p:blipFill>
            <a:blip r:embed="rId4"/>
            <a:srcRect l="55371" t="11462" r="5653" b="11579"/>
            <a:stretch/>
          </p:blipFill>
          <p:spPr>
            <a:xfrm>
              <a:off x="7162920" y="3048120"/>
              <a:ext cx="175248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502320" y="4127400"/>
              <a:ext cx="381240" cy="304920"/>
            </a:xfrm>
            <a:prstGeom prst="rightArrow">
              <a:avLst>
                <a:gd name="adj1" fmla="val 50000"/>
                <a:gd name="adj2" fmla="val 31257"/>
              </a:avLst>
            </a:prstGeom>
            <a:gradFill rotWithShape="0">
              <a:gsLst>
                <a:gs pos="0">
                  <a:srgbClr val="ff1119"/>
                </a:gs>
                <a:gs pos="100000">
                  <a:srgbClr val="75070b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15520" y="274320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ABL / BC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10840" y="320040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BCR / AB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0" y="2743200"/>
              <a:ext cx="1143000" cy="304920"/>
            </a:xfrm>
            <a:prstGeom prst="ellipse">
              <a:avLst/>
            </a:prstGeom>
            <a:solidFill>
              <a:srgbClr val="ca0000">
                <a:alpha val="14000"/>
              </a:srgbClr>
            </a:solidFill>
            <a:ln w="9360">
              <a:solidFill>
                <a:srgbClr val="c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34240" y="3187800"/>
              <a:ext cx="1143000" cy="304560"/>
            </a:xfrm>
            <a:prstGeom prst="ellipse">
              <a:avLst/>
            </a:prstGeom>
            <a:solidFill>
              <a:srgbClr val="ca0000">
                <a:alpha val="14000"/>
              </a:srgbClr>
            </a:solidFill>
            <a:ln w="9360">
              <a:solidFill>
                <a:srgbClr val="c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743200" y="3200400"/>
            <a:ext cx="271440" cy="185760"/>
          </a:xfrm>
          <a:prstGeom prst="rect">
            <a:avLst/>
          </a:prstGeom>
          <a:solidFill>
            <a:srgbClr val="1416c7">
              <a:alpha val="23000"/>
            </a:srgbClr>
          </a:solidFill>
          <a:ln w="9360">
            <a:solidFill>
              <a:srgbClr val="1416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919" t="2754" r="2752" b="926"/>
          <a:stretch/>
        </p:blipFill>
        <p:spPr>
          <a:xfrm>
            <a:off x="609480" y="1265400"/>
            <a:ext cx="8001000" cy="544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 flipV="1">
            <a:off x="6248520" y="6095880"/>
            <a:ext cx="457200" cy="457200"/>
          </a:xfrm>
          <a:prstGeom prst="line">
            <a:avLst/>
          </a:prstGeom>
          <a:ln w="38160">
            <a:solidFill>
              <a:srgbClr val="fd00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962520" y="3733920"/>
            <a:ext cx="457200" cy="457200"/>
          </a:xfrm>
          <a:prstGeom prst="line">
            <a:avLst/>
          </a:prstGeom>
          <a:ln w="38160">
            <a:solidFill>
              <a:srgbClr val="fd00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7761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03297"/>
                </a:solidFill>
                <a:latin typeface="Palatino"/>
              </a:rPr>
              <a:t>t(9;22)(q34;q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95280" y="457200"/>
            <a:ext cx="655344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a7e"/>
                </a:solidFill>
                <a:latin typeface="Palatino"/>
              </a:rPr>
              <a:t>Livello molecol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0a7e"/>
                </a:solidFill>
                <a:latin typeface="Palatino"/>
              </a:rPr>
              <a:t>formazione di un GENE CHIME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-216000" y="3200400"/>
            <a:ext cx="9131400" cy="1506240"/>
            <a:chOff x="-216000" y="3200400"/>
            <a:chExt cx="9131400" cy="1506240"/>
          </a:xfrm>
        </p:grpSpPr>
        <p:sp>
          <p:nvSpPr>
            <p:cNvPr id="69" name=""/>
            <p:cNvSpPr/>
            <p:nvPr/>
          </p:nvSpPr>
          <p:spPr>
            <a:xfrm>
              <a:off x="4648320" y="3200400"/>
              <a:ext cx="304560" cy="457200"/>
            </a:xfrm>
            <a:prstGeom prst="downArrow">
              <a:avLst>
                <a:gd name="adj1" fmla="val 50000"/>
                <a:gd name="adj2" fmla="val 37530"/>
              </a:avLst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-216000" y="40640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ne di fusione </a:t>
              </a:r>
              <a:r>
                <a:rPr b="1" lang="en-US" sz="1800" spc="-1" strike="noStrike">
                  <a:solidFill>
                    <a:srgbClr val="1416c8"/>
                  </a:solidFill>
                  <a:latin typeface="Palatino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/</a:t>
              </a:r>
              <a:r>
                <a:rPr b="1" lang="en-US" sz="1800" spc="-1" strike="noStrike">
                  <a:solidFill>
                    <a:srgbClr val="fd0023"/>
                  </a:solidFill>
                  <a:latin typeface="Palatino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33440" y="43815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78040" y="39495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promo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51160" y="4356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66960" y="4254480"/>
              <a:ext cx="838080" cy="2286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72080" y="4241880"/>
              <a:ext cx="761760" cy="21600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08640" y="4343400"/>
              <a:ext cx="5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05520" y="4229280"/>
              <a:ext cx="761760" cy="21564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67280" y="4356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13400" y="4216320"/>
              <a:ext cx="685800" cy="22860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99200" y="435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04120" y="4229280"/>
              <a:ext cx="685800" cy="22860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89920" y="436896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13200" y="3911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91120" y="3581280"/>
              <a:ext cx="179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</a:rPr>
                <a:t>traslocazione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29080" y="4254480"/>
              <a:ext cx="609480" cy="22860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328000">
              <a:off x="2907720" y="4305240"/>
              <a:ext cx="15264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177800">
              <a:off x="6857640" y="427932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749840" y="2162160"/>
            <a:ext cx="1308240" cy="732960"/>
            <a:chOff x="4749840" y="2162160"/>
            <a:chExt cx="1308240" cy="732960"/>
          </a:xfrm>
        </p:grpSpPr>
        <p:sp>
          <p:nvSpPr>
            <p:cNvPr id="89" name=""/>
            <p:cNvSpPr/>
            <p:nvPr/>
          </p:nvSpPr>
          <p:spPr>
            <a:xfrm>
              <a:off x="4800600" y="21621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49840" y="2314440"/>
              <a:ext cx="1308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</a:rPr>
                <a:t>breakpo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5079960"/>
            <a:ext cx="6825960" cy="642600"/>
            <a:chOff x="228600" y="5079960"/>
            <a:chExt cx="6825960" cy="642600"/>
          </a:xfrm>
        </p:grpSpPr>
        <p:sp>
          <p:nvSpPr>
            <p:cNvPr id="92" name=""/>
            <p:cNvSpPr/>
            <p:nvPr/>
          </p:nvSpPr>
          <p:spPr>
            <a:xfrm>
              <a:off x="3308400" y="5092560"/>
              <a:ext cx="609480" cy="22860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4520" y="5092560"/>
              <a:ext cx="927000" cy="23184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18160" y="5092560"/>
              <a:ext cx="799920" cy="22860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0280" y="530208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d0023"/>
                  </a:solidFill>
                  <a:latin typeface="Palatino"/>
                </a:rPr>
                <a:t>3’UTR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328000">
              <a:off x="3562200" y="515592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2120" y="5092560"/>
              <a:ext cx="685800" cy="22860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177800">
              <a:off x="5886360" y="515556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64200" y="5092560"/>
              <a:ext cx="685800" cy="22860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600" y="5079960"/>
              <a:ext cx="305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Trascritto di fusione </a:t>
              </a:r>
              <a:r>
                <a:rPr b="1" lang="en-US" sz="1800" spc="-1" strike="noStrike">
                  <a:solidFill>
                    <a:srgbClr val="1416c8"/>
                  </a:solidFill>
                  <a:latin typeface="Palatino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/</a:t>
              </a:r>
              <a:r>
                <a:rPr b="1" lang="en-US" sz="1800" spc="-1" strike="noStrike">
                  <a:solidFill>
                    <a:srgbClr val="fd0023"/>
                  </a:solidFill>
                  <a:latin typeface="Palatino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91240" y="528948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6c8"/>
                  </a:solidFill>
                  <a:latin typeface="Palatino"/>
                </a:rPr>
                <a:t>5’UTR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04920" y="5819760"/>
            <a:ext cx="6324480" cy="1343520"/>
            <a:chOff x="304920" y="5819760"/>
            <a:chExt cx="6324480" cy="1343520"/>
          </a:xfrm>
        </p:grpSpPr>
        <p:sp>
          <p:nvSpPr>
            <p:cNvPr id="103" name=""/>
            <p:cNvSpPr/>
            <p:nvPr/>
          </p:nvSpPr>
          <p:spPr>
            <a:xfrm>
              <a:off x="3454560" y="5832360"/>
              <a:ext cx="1295280" cy="30492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73520" y="5832360"/>
              <a:ext cx="1371600" cy="30492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581976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Proteina di fusione </a:t>
              </a:r>
              <a:r>
                <a:rPr b="1" lang="en-US" sz="1800" spc="-1" strike="noStrike">
                  <a:solidFill>
                    <a:srgbClr val="1416c8"/>
                  </a:solidFill>
                  <a:latin typeface="Palatino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/</a:t>
              </a:r>
              <a:r>
                <a:rPr b="1" lang="en-US" sz="1800" spc="-1" strike="noStrike">
                  <a:solidFill>
                    <a:srgbClr val="fd0023"/>
                  </a:solidFill>
                  <a:latin typeface="Palatino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8120" y="6095880"/>
              <a:ext cx="1600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6c8"/>
                  </a:solidFill>
                  <a:latin typeface="Palatino"/>
                </a:rPr>
                <a:t>Domini/motivi funzionali di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6095880"/>
              <a:ext cx="1905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1622"/>
                  </a:solidFill>
                  <a:latin typeface="Palatino"/>
                </a:rPr>
                <a:t>Domini/motivi funzionali di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80880" y="1676520"/>
            <a:ext cx="7772400" cy="571320"/>
            <a:chOff x="380880" y="1676520"/>
            <a:chExt cx="7772400" cy="571320"/>
          </a:xfrm>
        </p:grpSpPr>
        <p:sp>
          <p:nvSpPr>
            <p:cNvPr id="109" name=""/>
            <p:cNvSpPr/>
            <p:nvPr/>
          </p:nvSpPr>
          <p:spPr>
            <a:xfrm>
              <a:off x="4508640" y="2070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29200" y="1955880"/>
              <a:ext cx="685800" cy="22860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27600" y="205740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3080" y="1955880"/>
              <a:ext cx="762120" cy="239760"/>
            </a:xfrm>
            <a:prstGeom prst="cube">
              <a:avLst>
                <a:gd name="adj" fmla="val 25000"/>
              </a:avLst>
            </a:prstGeom>
            <a:solidFill>
              <a:srgbClr val="1324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7800" y="205740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80880" y="1676520"/>
              <a:ext cx="4191120" cy="571320"/>
              <a:chOff x="380880" y="1676520"/>
              <a:chExt cx="4191120" cy="571320"/>
            </a:xfrm>
          </p:grpSpPr>
          <p:sp>
            <p:nvSpPr>
              <p:cNvPr id="115" name=""/>
              <p:cNvSpPr/>
              <p:nvPr/>
            </p:nvSpPr>
            <p:spPr>
              <a:xfrm>
                <a:off x="380880" y="1879560"/>
                <a:ext cx="106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6c8"/>
                    </a:solidFill>
                    <a:latin typeface="Palatino"/>
                  </a:rPr>
                  <a:t>Gene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71600" y="2108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16200" y="16765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promoto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89320" y="20829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05120" y="1981080"/>
                <a:ext cx="838080" cy="2286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66880" y="1981080"/>
                <a:ext cx="609840" cy="228600"/>
              </a:xfrm>
              <a:prstGeom prst="cube">
                <a:avLst>
                  <a:gd name="adj" fmla="val 25000"/>
                </a:avLst>
              </a:prstGeom>
              <a:solidFill>
                <a:srgbClr val="1324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809880" y="1968480"/>
                <a:ext cx="762120" cy="216000"/>
              </a:xfrm>
              <a:prstGeom prst="cube">
                <a:avLst>
                  <a:gd name="adj" fmla="val 25000"/>
                </a:avLst>
              </a:prstGeom>
              <a:solidFill>
                <a:srgbClr val="1324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328000">
                <a:off x="2920680" y="204480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6177800">
              <a:off x="6692760" y="204732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990720" y="2451240"/>
            <a:ext cx="7924680" cy="672840"/>
            <a:chOff x="990720" y="2451240"/>
            <a:chExt cx="7924680" cy="672840"/>
          </a:xfrm>
        </p:grpSpPr>
        <p:sp>
          <p:nvSpPr>
            <p:cNvPr id="125" name=""/>
            <p:cNvSpPr/>
            <p:nvPr/>
          </p:nvSpPr>
          <p:spPr>
            <a:xfrm>
              <a:off x="990720" y="275580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d0023"/>
                  </a:solidFill>
                  <a:latin typeface="Palatino"/>
                </a:rPr>
                <a:t>Gene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20760" y="2908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4280" y="2781360"/>
              <a:ext cx="838080" cy="228600"/>
            </a:xfrm>
            <a:prstGeom prst="cube">
              <a:avLst>
                <a:gd name="adj" fmla="val 25000"/>
              </a:avLst>
            </a:prstGeom>
            <a:solidFill>
              <a:srgbClr val="e38d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16400" y="2781360"/>
              <a:ext cx="1143000" cy="228600"/>
            </a:xfrm>
            <a:prstGeom prst="cube">
              <a:avLst>
                <a:gd name="adj" fmla="val 25000"/>
              </a:avLst>
            </a:prstGeom>
            <a:solidFill>
              <a:srgbClr val="ff16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25400" y="245124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promo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4559400" y="2768760"/>
              <a:ext cx="4356000" cy="241200"/>
              <a:chOff x="4559400" y="2768760"/>
              <a:chExt cx="4356000" cy="241200"/>
            </a:xfrm>
          </p:grpSpPr>
          <p:sp>
            <p:nvSpPr>
              <p:cNvPr id="131" name=""/>
              <p:cNvSpPr/>
              <p:nvPr/>
            </p:nvSpPr>
            <p:spPr>
              <a:xfrm>
                <a:off x="4559400" y="290844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05520" y="2781360"/>
                <a:ext cx="761760" cy="216000"/>
              </a:xfrm>
              <a:prstGeom prst="cube">
                <a:avLst>
                  <a:gd name="adj" fmla="val 25000"/>
                </a:avLst>
              </a:prstGeom>
              <a:solidFill>
                <a:srgbClr val="ff162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67280" y="290844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13400" y="2768760"/>
                <a:ext cx="685800" cy="228600"/>
              </a:xfrm>
              <a:prstGeom prst="cube">
                <a:avLst>
                  <a:gd name="adj" fmla="val 25000"/>
                </a:avLst>
              </a:prstGeom>
              <a:solidFill>
                <a:srgbClr val="ff162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177800">
                <a:off x="6857640" y="283140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99200" y="2908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04120" y="2781360"/>
                <a:ext cx="685800" cy="228600"/>
              </a:xfrm>
              <a:prstGeom prst="cube">
                <a:avLst>
                  <a:gd name="adj" fmla="val 25000"/>
                </a:avLst>
              </a:prstGeom>
              <a:solidFill>
                <a:srgbClr val="ff162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089920" y="2921040"/>
                <a:ext cx="8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rot="5328000">
              <a:off x="4127400" y="28476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523880"/>
            <a:ext cx="3276720" cy="44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297"/>
                </a:solidFill>
                <a:latin typeface="Palatino"/>
              </a:rPr>
              <a:t>LMC: t(9;22) (q34;q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297"/>
                </a:solidFill>
                <a:latin typeface="Palatino"/>
              </a:rPr>
              <a:t>Si formano due geni di fusione reciproci, ma non equivalenti ai fini della patolog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297"/>
                </a:solidFill>
                <a:latin typeface="Palatino"/>
              </a:rPr>
              <a:t>1. BCR /AB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297"/>
                </a:solidFill>
                <a:latin typeface="Palatino"/>
              </a:rPr>
              <a:t>2. ABL / B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297"/>
                </a:solidFill>
                <a:latin typeface="Palatino"/>
              </a:rPr>
              <a:t>Solo il primo dei due prodotti reciproci della traslocazione provoca l’insorgenza del canc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414960" y="4408560"/>
            <a:ext cx="5124240" cy="1136160"/>
            <a:chOff x="3414960" y="4408560"/>
            <a:chExt cx="5124240" cy="1136160"/>
          </a:xfrm>
        </p:grpSpPr>
        <p:sp>
          <p:nvSpPr>
            <p:cNvPr id="142" name=""/>
            <p:cNvSpPr/>
            <p:nvPr/>
          </p:nvSpPr>
          <p:spPr>
            <a:xfrm>
              <a:off x="3705120" y="4861080"/>
              <a:ext cx="181080" cy="35064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76840" y="4861080"/>
              <a:ext cx="179280" cy="3506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46400" y="4861080"/>
              <a:ext cx="181080" cy="3506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8120" y="4861080"/>
              <a:ext cx="180720" cy="3506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89480" y="4861080"/>
              <a:ext cx="181080" cy="3506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60840" y="4861080"/>
              <a:ext cx="181080" cy="3506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32200" y="4861080"/>
              <a:ext cx="179640" cy="3506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4920" y="4861080"/>
              <a:ext cx="181080" cy="35064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6280" y="4861080"/>
              <a:ext cx="181080" cy="35064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28000" y="4861080"/>
              <a:ext cx="180720" cy="35064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99360" y="4861080"/>
              <a:ext cx="179280" cy="35064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9280" y="4861080"/>
              <a:ext cx="180720" cy="3506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40640" y="4861080"/>
              <a:ext cx="181080" cy="3506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12000" y="4861080"/>
              <a:ext cx="181080" cy="3506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83360" y="4861080"/>
              <a:ext cx="181080" cy="3506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5080" y="4861080"/>
              <a:ext cx="179280" cy="3506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25000" y="4861080"/>
              <a:ext cx="180720" cy="3506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13560" y="4861080"/>
              <a:ext cx="181080" cy="35064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43640" y="4861080"/>
              <a:ext cx="179280" cy="35064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72280" y="4861080"/>
              <a:ext cx="181080" cy="35064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67040" y="4408560"/>
              <a:ext cx="100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RNA BCR-AB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32640" y="4408560"/>
              <a:ext cx="100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RNA BCR-AB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94880" y="5292720"/>
              <a:ext cx="27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C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14960" y="5407200"/>
              <a:ext cx="41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sone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67040" y="5292720"/>
              <a:ext cx="20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B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08120" y="5407200"/>
              <a:ext cx="68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soni 2-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29600" y="4692600"/>
              <a:ext cx="27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1-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15400" y="4692600"/>
              <a:ext cx="75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2-2 o b3-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1120" y="5292720"/>
              <a:ext cx="20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C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76600" y="5407200"/>
              <a:ext cx="68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soni 1-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46840" y="5292720"/>
              <a:ext cx="20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B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89720" y="5407200"/>
              <a:ext cx="68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soni 2-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633120" y="5853240"/>
            <a:ext cx="4992840" cy="823680"/>
            <a:chOff x="3633120" y="5853240"/>
            <a:chExt cx="4992840" cy="823680"/>
          </a:xfrm>
        </p:grpSpPr>
        <p:sp>
          <p:nvSpPr>
            <p:cNvPr id="175" name=""/>
            <p:cNvSpPr/>
            <p:nvPr/>
          </p:nvSpPr>
          <p:spPr>
            <a:xfrm>
              <a:off x="3705120" y="6324480"/>
              <a:ext cx="181080" cy="35244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76840" y="6324480"/>
              <a:ext cx="1000080" cy="3524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72280" y="6324480"/>
              <a:ext cx="1206360" cy="35244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69280" y="6324480"/>
              <a:ext cx="1036440" cy="35244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00440" y="5853240"/>
              <a:ext cx="100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190 BCR-AB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70800" y="5853240"/>
              <a:ext cx="100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210 BCR-AB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33120" y="6176880"/>
              <a:ext cx="13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81800" y="619596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59960" y="6195960"/>
              <a:ext cx="27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50920" y="6195960"/>
              <a:ext cx="27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99920" y="6176880"/>
              <a:ext cx="13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N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48600" y="619596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962520" y="32608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318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562200" y="1760400"/>
            <a:ext cx="5049360" cy="2157120"/>
            <a:chOff x="3562200" y="1760400"/>
            <a:chExt cx="5049360" cy="2157120"/>
          </a:xfrm>
        </p:grpSpPr>
        <p:sp>
          <p:nvSpPr>
            <p:cNvPr id="190" name=""/>
            <p:cNvSpPr/>
            <p:nvPr/>
          </p:nvSpPr>
          <p:spPr>
            <a:xfrm>
              <a:off x="3562200" y="3614760"/>
              <a:ext cx="213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29360" y="3614760"/>
              <a:ext cx="24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48240" y="3529080"/>
              <a:ext cx="95040" cy="18108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05280" y="3529080"/>
              <a:ext cx="93600" cy="18108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3529080"/>
              <a:ext cx="95400" cy="18108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03600" y="3529080"/>
              <a:ext cx="95400" cy="18108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02240" y="3529080"/>
              <a:ext cx="95400" cy="18108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187960" y="352908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273640" y="352908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15040" y="3529080"/>
              <a:ext cx="95400" cy="18108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42000" y="3529080"/>
              <a:ext cx="95400" cy="18108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813720" y="352908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899400" y="352908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70760" y="3529080"/>
              <a:ext cx="95040" cy="18108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42120" y="3529080"/>
              <a:ext cx="95400" cy="181080"/>
            </a:xfrm>
            <a:prstGeom prst="rect">
              <a:avLst/>
            </a:prstGeom>
            <a:solidFill>
              <a:srgbClr val="ca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97720" y="3529080"/>
              <a:ext cx="95400" cy="18108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40800" y="3529080"/>
              <a:ext cx="95040" cy="18108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97840" y="3529080"/>
              <a:ext cx="95400" cy="18108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8240760" y="3529080"/>
              <a:ext cx="8424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8325000" y="352908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96360" y="3529080"/>
              <a:ext cx="95040" cy="181080"/>
            </a:xfrm>
            <a:prstGeom prst="rect">
              <a:avLst/>
            </a:prstGeom>
            <a:solidFill>
              <a:srgbClr val="1b69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14800" y="2502000"/>
              <a:ext cx="3505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77560" y="3780000"/>
              <a:ext cx="13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29280" y="378000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13680" y="378000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77760" y="3780000"/>
              <a:ext cx="13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04680" y="3780000"/>
              <a:ext cx="13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97760" y="2590920"/>
              <a:ext cx="159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 (9;22) (q34;q11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soforme BCR / ABL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100920" y="2502000"/>
              <a:ext cx="14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35160" y="3770280"/>
              <a:ext cx="13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00280" y="3770280"/>
              <a:ext cx="13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52760" y="3770280"/>
              <a:ext cx="13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30600" y="3770280"/>
              <a:ext cx="13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71800" y="3780000"/>
              <a:ext cx="13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50520" y="378000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17280" y="378000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73680" y="3770280"/>
              <a:ext cx="13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618320" y="213336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14800" y="1760400"/>
              <a:ext cx="1440" cy="74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876920" y="2971800"/>
              <a:ext cx="1218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29718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629400" y="213336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478320" y="546120"/>
            <a:ext cx="5171400" cy="1547280"/>
            <a:chOff x="3478320" y="546120"/>
            <a:chExt cx="5171400" cy="1547280"/>
          </a:xfrm>
        </p:grpSpPr>
        <p:grpSp>
          <p:nvGrpSpPr>
            <p:cNvPr id="233" name=""/>
            <p:cNvGrpSpPr/>
            <p:nvPr/>
          </p:nvGrpSpPr>
          <p:grpSpPr>
            <a:xfrm>
              <a:off x="3478320" y="546120"/>
              <a:ext cx="5171400" cy="1547280"/>
              <a:chOff x="3478320" y="546120"/>
              <a:chExt cx="5171400" cy="1547280"/>
            </a:xfrm>
          </p:grpSpPr>
          <p:sp>
            <p:nvSpPr>
              <p:cNvPr id="234" name=""/>
              <p:cNvSpPr/>
              <p:nvPr/>
            </p:nvSpPr>
            <p:spPr>
              <a:xfrm>
                <a:off x="3533760" y="1236600"/>
                <a:ext cx="2224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272280" y="1236600"/>
                <a:ext cx="2224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05120" y="1150920"/>
                <a:ext cx="95400" cy="181080"/>
              </a:xfrm>
              <a:prstGeom prst="rect">
                <a:avLst/>
              </a:prstGeom>
              <a:solidFill>
                <a:srgbClr val="1b690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8120" y="1150920"/>
                <a:ext cx="95040" cy="181080"/>
              </a:xfrm>
              <a:prstGeom prst="rect">
                <a:avLst/>
              </a:prstGeom>
              <a:solidFill>
                <a:srgbClr val="1b690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60840" y="1150920"/>
                <a:ext cx="95400" cy="181080"/>
              </a:xfrm>
              <a:prstGeom prst="rect">
                <a:avLst/>
              </a:prstGeom>
              <a:solidFill>
                <a:srgbClr val="1b690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16440" y="1150920"/>
                <a:ext cx="95400" cy="181080"/>
              </a:xfrm>
              <a:prstGeom prst="rect">
                <a:avLst/>
              </a:prstGeom>
              <a:solidFill>
                <a:srgbClr val="1b690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02240" y="1150920"/>
                <a:ext cx="95400" cy="181080"/>
              </a:xfrm>
              <a:prstGeom prst="rect">
                <a:avLst/>
              </a:prstGeom>
              <a:solidFill>
                <a:srgbClr val="1b690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57960" y="1150920"/>
                <a:ext cx="95400" cy="181080"/>
              </a:xfrm>
              <a:prstGeom prst="rect">
                <a:avLst/>
              </a:prstGeom>
              <a:solidFill>
                <a:srgbClr val="ca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84920" y="1150920"/>
                <a:ext cx="95400" cy="181080"/>
              </a:xfrm>
              <a:prstGeom prst="rect">
                <a:avLst/>
              </a:prstGeom>
              <a:solidFill>
                <a:srgbClr val="ca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213680" y="1150920"/>
                <a:ext cx="95040" cy="181080"/>
              </a:xfrm>
              <a:prstGeom prst="rect">
                <a:avLst/>
              </a:prstGeom>
              <a:solidFill>
                <a:srgbClr val="ca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385040" y="1150920"/>
                <a:ext cx="93600" cy="181080"/>
              </a:xfrm>
              <a:prstGeom prst="rect">
                <a:avLst/>
              </a:prstGeom>
              <a:solidFill>
                <a:srgbClr val="ca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54960" y="1150920"/>
                <a:ext cx="95040" cy="181080"/>
              </a:xfrm>
              <a:prstGeom prst="rect">
                <a:avLst/>
              </a:prstGeom>
              <a:solidFill>
                <a:srgbClr val="ca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726320" y="1150920"/>
                <a:ext cx="95400" cy="181080"/>
              </a:xfrm>
              <a:prstGeom prst="rect">
                <a:avLst/>
              </a:prstGeom>
              <a:solidFill>
                <a:srgbClr val="ca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97680" y="1150920"/>
                <a:ext cx="95400" cy="181080"/>
              </a:xfrm>
              <a:prstGeom prst="rect">
                <a:avLst/>
              </a:prstGeom>
              <a:solidFill>
                <a:srgbClr val="ca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325000" y="1150920"/>
                <a:ext cx="95040" cy="181080"/>
              </a:xfrm>
              <a:prstGeom prst="rect">
                <a:avLst/>
              </a:prstGeom>
              <a:solidFill>
                <a:srgbClr val="ca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5159520" y="115092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5245200" y="115092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8069400" y="115092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8155080" y="115092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04320" y="736560"/>
                <a:ext cx="25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AB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01960" y="736560"/>
                <a:ext cx="25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BC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75720" y="546120"/>
                <a:ext cx="922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ROMOSOMA 9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84800" y="546120"/>
                <a:ext cx="1006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ROMOSOMA 2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3998880" y="980640"/>
                <a:ext cx="95400" cy="170280"/>
                <a:chOff x="3998880" y="980640"/>
                <a:chExt cx="95400" cy="1702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998880" y="1028880"/>
                  <a:ext cx="95400" cy="122040"/>
                </a:xfrm>
                <a:custGeom>
                  <a:avLst/>
                  <a:gdLst/>
                  <a:ahLst/>
                  <a:rect l="l" t="t" r="r" b="b"/>
                  <a:pathLst>
                    <a:path w="60" h="77">
                      <a:moveTo>
                        <a:pt x="30" y="77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60" y="0"/>
                      </a:lnTo>
                      <a:lnTo>
                        <a:pt x="30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4046400" y="980640"/>
                  <a:ext cx="18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4398840" y="980640"/>
                <a:ext cx="95400" cy="170280"/>
                <a:chOff x="4398840" y="980640"/>
                <a:chExt cx="95400" cy="1702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398840" y="1028880"/>
                  <a:ext cx="95400" cy="122040"/>
                </a:xfrm>
                <a:custGeom>
                  <a:avLst/>
                  <a:gdLst/>
                  <a:ahLst/>
                  <a:rect l="l" t="t" r="r" b="b"/>
                  <a:pathLst>
                    <a:path w="60" h="77">
                      <a:moveTo>
                        <a:pt x="30" y="77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60" y="0"/>
                      </a:lnTo>
                      <a:lnTo>
                        <a:pt x="30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4446720" y="980640"/>
                  <a:ext cx="144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566040" y="980640"/>
                <a:ext cx="95040" cy="170280"/>
                <a:chOff x="6566040" y="980640"/>
                <a:chExt cx="95040" cy="1702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66040" y="1028880"/>
                  <a:ext cx="95040" cy="122040"/>
                </a:xfrm>
                <a:custGeom>
                  <a:avLst/>
                  <a:gdLst/>
                  <a:ahLst/>
                  <a:rect l="l" t="t" r="r" b="b"/>
                  <a:pathLst>
                    <a:path w="60" h="77">
                      <a:moveTo>
                        <a:pt x="30" y="77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60" y="0"/>
                      </a:lnTo>
                      <a:lnTo>
                        <a:pt x="30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6613560" y="980640"/>
                  <a:ext cx="144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299360" y="980640"/>
                <a:ext cx="93600" cy="170280"/>
                <a:chOff x="7299360" y="980640"/>
                <a:chExt cx="93600" cy="170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7299360" y="1028880"/>
                  <a:ext cx="93600" cy="122040"/>
                </a:xfrm>
                <a:custGeom>
                  <a:avLst/>
                  <a:gdLst/>
                  <a:ahLst/>
                  <a:rect l="l" t="t" r="r" b="b"/>
                  <a:pathLst>
                    <a:path w="59" h="77">
                      <a:moveTo>
                        <a:pt x="30" y="77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59" y="0"/>
                      </a:lnTo>
                      <a:lnTo>
                        <a:pt x="30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7346880" y="980640"/>
                  <a:ext cx="180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7469280" y="980640"/>
                <a:ext cx="95040" cy="170280"/>
                <a:chOff x="7469280" y="980640"/>
                <a:chExt cx="95040" cy="170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7469280" y="1028880"/>
                  <a:ext cx="95040" cy="122040"/>
                </a:xfrm>
                <a:custGeom>
                  <a:avLst/>
                  <a:gdLst/>
                  <a:ahLst/>
                  <a:rect l="l" t="t" r="r" b="b"/>
                  <a:pathLst>
                    <a:path w="60" h="77">
                      <a:moveTo>
                        <a:pt x="30" y="77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60" y="0"/>
                      </a:lnTo>
                      <a:lnTo>
                        <a:pt x="30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7516800" y="980640"/>
                  <a:ext cx="144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3483720" y="1031760"/>
                <a:ext cx="25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92240" y="1031760"/>
                <a:ext cx="25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te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36560" y="1031760"/>
                <a:ext cx="25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97360" y="1031760"/>
                <a:ext cx="25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te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677760" y="1393920"/>
                <a:ext cx="13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78080" y="1384200"/>
                <a:ext cx="13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195680" y="1384200"/>
                <a:ext cx="13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b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373160" y="1384200"/>
                <a:ext cx="13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b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35160" y="1384200"/>
                <a:ext cx="13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b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16240" y="1384200"/>
                <a:ext cx="13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b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95520" y="1384200"/>
                <a:ext cx="13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b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01560" y="1393920"/>
                <a:ext cx="13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80280" y="139392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37320" y="139392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77760" y="1384200"/>
                <a:ext cx="13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343200" y="1384200"/>
                <a:ext cx="13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50280" y="16016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21640" y="16016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00920" y="16016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329680" y="16016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40400" y="1916280"/>
                <a:ext cx="419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m-bc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426080" y="1925640"/>
                <a:ext cx="419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M-bc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632640" y="1770120"/>
                <a:ext cx="1440" cy="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7621560" y="1770120"/>
                <a:ext cx="1440" cy="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77040" y="1760400"/>
                <a:ext cx="474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223040" y="1760400"/>
                <a:ext cx="798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187320" y="1601640"/>
                <a:ext cx="67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18400" y="16016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97840" y="16016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78560" y="160164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78320" y="1279440"/>
                <a:ext cx="16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  <a:ea typeface="ヒラギノ角ゴ Pro W3"/>
                  </a:rPr>
                  <a:t>’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03840" y="1279440"/>
                <a:ext cx="16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  <a:ea typeface="ヒラギノ角ゴ Pro W3"/>
                  </a:rPr>
                  <a:t>’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88040" y="1279440"/>
                <a:ext cx="16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  <a:ea typeface="ヒラギノ角ゴ Pro W3"/>
                  </a:rPr>
                  <a:t>’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480520" y="1279440"/>
                <a:ext cx="16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  <a:ea typeface="ヒラギノ角ゴ Pro W3"/>
                  </a:rPr>
                  <a:t>’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flipV="1">
              <a:off x="6966000" y="115884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051680" y="115884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1143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03297"/>
                </a:solidFill>
                <a:latin typeface="Palatino"/>
              </a:rPr>
              <a:t>Strategia di scelta dei BAC per la F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2214720"/>
            <a:ext cx="822960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30329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03297"/>
                </a:solidFill>
                <a:latin typeface="Palatino"/>
              </a:rPr>
              <a:t>Individuare i BAC che contengono come inserto la regione genomica d’interes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buClr>
                <a:srgbClr val="30329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buClr>
                <a:srgbClr val="30329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10000"/>
              </a:lnSpc>
              <a:buClr>
                <a:srgbClr val="30329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03297"/>
                </a:solidFill>
                <a:latin typeface="Palatino"/>
              </a:rPr>
              <a:t>Verificare che le FISH con questi BAC su </a:t>
            </a:r>
            <a:r>
              <a:rPr b="1" lang="it-IT" sz="2400" spc="-1" strike="noStrike" u="sng">
                <a:solidFill>
                  <a:srgbClr val="303297"/>
                </a:solidFill>
                <a:uFillTx/>
                <a:latin typeface="Palatino"/>
              </a:rPr>
              <a:t>metafasi</a:t>
            </a:r>
            <a:r>
              <a:rPr b="1" lang="it-IT" sz="2400" spc="-1" strike="noStrike">
                <a:solidFill>
                  <a:srgbClr val="303297"/>
                </a:solidFill>
                <a:latin typeface="Palatino"/>
              </a:rPr>
              <a:t> </a:t>
            </a:r>
            <a:r>
              <a:rPr b="1" lang="it-IT" sz="2400" spc="-1" strike="noStrike" u="sng">
                <a:solidFill>
                  <a:srgbClr val="303297"/>
                </a:solidFill>
                <a:uFillTx/>
                <a:latin typeface="Palatino"/>
              </a:rPr>
              <a:t>di controllo</a:t>
            </a:r>
            <a:r>
              <a:rPr b="0" lang="it-IT" sz="2400" spc="-1" strike="noStrike">
                <a:solidFill>
                  <a:srgbClr val="303297"/>
                </a:solidFill>
                <a:latin typeface="Palatino"/>
              </a:rPr>
              <a:t> mostrino il segnale attes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buClr>
                <a:srgbClr val="30329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buClr>
                <a:srgbClr val="30329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03297"/>
                </a:solidFill>
                <a:latin typeface="Palatino"/>
              </a:rPr>
              <a:t>Selezionare i BAC piu’ efficaci per l’uso di interes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03297"/>
                </a:solidFill>
                <a:latin typeface="Palatino"/>
              </a:rPr>
              <a:t>Strategia per disegnare </a:t>
            </a:r>
            <a:br>
              <a:rPr sz="2800"/>
            </a:br>
            <a:r>
              <a:rPr b="1" lang="it-IT" sz="2800" spc="-1" strike="noStrike">
                <a:solidFill>
                  <a:srgbClr val="303297"/>
                </a:solidFill>
                <a:latin typeface="Palatino"/>
              </a:rPr>
              <a:t>un test diagnostico di LM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1806480"/>
            <a:ext cx="8229600" cy="42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buClr>
                <a:srgbClr val="30329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Individuare BAC che contengono le due regioni genomiche dei geni BCR e ABL, poiche’ tipicamente coinvolte nei riarrangiame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30329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30329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303297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Verificare ciascun BAC individuato attraverso due FIS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57200" algn="just">
              <a:lnSpc>
                <a:spcPct val="110000"/>
              </a:lnSpc>
              <a:buClr>
                <a:srgbClr val="303297"/>
              </a:buClr>
              <a:buFont typeface="Palatino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su </a:t>
            </a:r>
            <a:r>
              <a:rPr b="1" lang="it-IT" sz="1800" spc="-1" strike="noStrike" u="sng">
                <a:solidFill>
                  <a:srgbClr val="303297"/>
                </a:solidFill>
                <a:uFillTx/>
                <a:latin typeface="Palatino"/>
              </a:rPr>
              <a:t>metafasi</a:t>
            </a:r>
            <a:r>
              <a:rPr b="1" lang="it-IT" sz="1800" spc="-1" strike="noStrike">
                <a:solidFill>
                  <a:srgbClr val="303297"/>
                </a:solidFill>
                <a:latin typeface="Palatino"/>
              </a:rPr>
              <a:t> </a:t>
            </a:r>
            <a:r>
              <a:rPr b="1" lang="it-IT" sz="1800" spc="-1" strike="noStrike" u="sng">
                <a:solidFill>
                  <a:srgbClr val="303297"/>
                </a:solidFill>
                <a:uFillTx/>
                <a:latin typeface="Palatino"/>
              </a:rPr>
              <a:t>normali</a:t>
            </a: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: devono comparire </a:t>
            </a:r>
            <a:r>
              <a:rPr b="1" lang="it-IT" sz="1800" spc="-1" strike="noStrike">
                <a:solidFill>
                  <a:srgbClr val="fd0023"/>
                </a:solidFill>
                <a:latin typeface="Palatino"/>
              </a:rPr>
              <a:t>due</a:t>
            </a: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 segnali (uno per ogni cromosoma omologo nella metafas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57200" algn="just">
              <a:lnSpc>
                <a:spcPct val="90000"/>
              </a:lnSpc>
              <a:buClr>
                <a:srgbClr val="303297"/>
              </a:buClr>
              <a:buFont typeface="Palatino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su </a:t>
            </a:r>
            <a:r>
              <a:rPr b="1" lang="it-IT" sz="1800" spc="-1" strike="noStrike" u="sng">
                <a:solidFill>
                  <a:srgbClr val="303297"/>
                </a:solidFill>
                <a:uFillTx/>
                <a:latin typeface="Palatino"/>
              </a:rPr>
              <a:t>metafasi</a:t>
            </a:r>
            <a:r>
              <a:rPr b="1" lang="it-IT" sz="1800" spc="-1" strike="noStrike">
                <a:solidFill>
                  <a:srgbClr val="303297"/>
                </a:solidFill>
                <a:latin typeface="Palatino"/>
              </a:rPr>
              <a:t> </a:t>
            </a:r>
            <a:r>
              <a:rPr b="1" lang="it-IT" sz="1800" spc="-1" strike="noStrike" u="sng">
                <a:solidFill>
                  <a:srgbClr val="303297"/>
                </a:solidFill>
                <a:uFillTx/>
                <a:latin typeface="Palatino"/>
              </a:rPr>
              <a:t>di</a:t>
            </a:r>
            <a:r>
              <a:rPr b="1" lang="it-IT" sz="1800" spc="-1" strike="noStrike">
                <a:solidFill>
                  <a:srgbClr val="303297"/>
                </a:solidFill>
                <a:latin typeface="Palatino"/>
              </a:rPr>
              <a:t> </a:t>
            </a:r>
            <a:r>
              <a:rPr b="1" lang="it-IT" sz="1800" spc="-1" strike="noStrike" u="sng">
                <a:solidFill>
                  <a:srgbClr val="303297"/>
                </a:solidFill>
                <a:uFillTx/>
                <a:latin typeface="Palatino"/>
              </a:rPr>
              <a:t>cloni</a:t>
            </a:r>
            <a:r>
              <a:rPr b="1" lang="it-IT" sz="1800" spc="-1" strike="noStrike">
                <a:solidFill>
                  <a:srgbClr val="303297"/>
                </a:solidFill>
                <a:latin typeface="Palatino"/>
              </a:rPr>
              <a:t> </a:t>
            </a:r>
            <a:r>
              <a:rPr b="1" lang="it-IT" sz="1800" spc="-1" strike="noStrike" u="sng">
                <a:solidFill>
                  <a:srgbClr val="303297"/>
                </a:solidFill>
                <a:uFillTx/>
                <a:latin typeface="Palatino"/>
              </a:rPr>
              <a:t>LMC</a:t>
            </a: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, con cromosomi riarrangiati: devono comparire </a:t>
            </a:r>
            <a:r>
              <a:rPr b="1" lang="it-IT" sz="1800" spc="-1" strike="noStrike">
                <a:solidFill>
                  <a:srgbClr val="fd0023"/>
                </a:solidFill>
                <a:latin typeface="Palatino"/>
              </a:rPr>
              <a:t>tre</a:t>
            </a: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 segnali (uno sul cromosoma normale e uno per ogni cromosoma riarrangiat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303297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303297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303297"/>
              </a:buClr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03297"/>
                </a:solidFill>
                <a:latin typeface="Palatino"/>
              </a:rPr>
              <a:t>Selezionare i BAC piu’ utili per l’uso di interes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5272560" y="3137040"/>
            <a:ext cx="3795120" cy="3720960"/>
            <a:chOff x="5272560" y="3137040"/>
            <a:chExt cx="3795120" cy="3720960"/>
          </a:xfrm>
        </p:grpSpPr>
        <p:grpSp>
          <p:nvGrpSpPr>
            <p:cNvPr id="313" name=""/>
            <p:cNvGrpSpPr/>
            <p:nvPr/>
          </p:nvGrpSpPr>
          <p:grpSpPr>
            <a:xfrm>
              <a:off x="5272560" y="3429000"/>
              <a:ext cx="3719160" cy="3429000"/>
              <a:chOff x="5272560" y="3429000"/>
              <a:chExt cx="3719160" cy="34290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7569720" y="3429000"/>
                <a:ext cx="1422000" cy="3057480"/>
                <a:chOff x="7569720" y="3429000"/>
                <a:chExt cx="1422000" cy="3057480"/>
              </a:xfrm>
            </p:grpSpPr>
            <p:pic>
              <p:nvPicPr>
                <p:cNvPr id="315" name="" descr=""/>
                <p:cNvPicPr/>
                <p:nvPr/>
              </p:nvPicPr>
              <p:blipFill>
                <a:blip r:embed="rId2"/>
                <a:srcRect l="7913" t="11462" r="61587" b="20962"/>
                <a:stretch/>
              </p:blipFill>
              <p:spPr>
                <a:xfrm>
                  <a:off x="7620120" y="3743280"/>
                  <a:ext cx="1371600" cy="274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6" name=""/>
                <p:cNvSpPr/>
                <p:nvPr/>
              </p:nvSpPr>
              <p:spPr>
                <a:xfrm>
                  <a:off x="7569720" y="3429000"/>
                  <a:ext cx="500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Palatino"/>
                    </a:rPr>
                    <a:t>AB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280720" y="3911400"/>
                  <a:ext cx="500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Palatino"/>
                    </a:rPr>
                    <a:t>BC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272560" y="3429000"/>
                <a:ext cx="2142720" cy="3429000"/>
                <a:chOff x="5272560" y="3429000"/>
                <a:chExt cx="2142720" cy="3429000"/>
              </a:xfrm>
            </p:grpSpPr>
            <p:pic>
              <p:nvPicPr>
                <p:cNvPr id="319" name="" descr=""/>
                <p:cNvPicPr/>
                <p:nvPr/>
              </p:nvPicPr>
              <p:blipFill>
                <a:blip r:embed="rId3"/>
                <a:srcRect l="55371" t="11462" r="5653" b="11579"/>
                <a:stretch/>
              </p:blipFill>
              <p:spPr>
                <a:xfrm>
                  <a:off x="5619960" y="3733920"/>
                  <a:ext cx="1752480" cy="312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5272560" y="3429000"/>
                  <a:ext cx="1247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Palatino"/>
                    </a:rPr>
                    <a:t>ABL / BC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167880" y="3886200"/>
                  <a:ext cx="1247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Palatino"/>
                    </a:rPr>
                    <a:t>BCR / ABL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2" name=""/>
            <p:cNvGrpSpPr/>
            <p:nvPr/>
          </p:nvGrpSpPr>
          <p:grpSpPr>
            <a:xfrm>
              <a:off x="5410080" y="3137040"/>
              <a:ext cx="3657600" cy="3720960"/>
              <a:chOff x="5410080" y="3137040"/>
              <a:chExt cx="3657600" cy="3720960"/>
            </a:xfrm>
          </p:grpSpPr>
          <p:sp>
            <p:nvSpPr>
              <p:cNvPr id="323" name=""/>
              <p:cNvSpPr/>
              <p:nvPr/>
            </p:nvSpPr>
            <p:spPr>
              <a:xfrm>
                <a:off x="6379920" y="3137040"/>
                <a:ext cx="2131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600" spc="-1" strike="noStrike">
                    <a:solidFill>
                      <a:srgbClr val="1416c7"/>
                    </a:solidFill>
                    <a:latin typeface="Palatino"/>
                  </a:rPr>
                  <a:t>Split </a:t>
                </a:r>
                <a:r>
                  <a:rPr b="0" lang="it-IT" sz="1600" spc="-1" strike="noStrike">
                    <a:solidFill>
                      <a:srgbClr val="1416c7"/>
                    </a:solidFill>
                    <a:latin typeface="Palatino"/>
                  </a:rPr>
                  <a:t>BAC di B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3470400"/>
                <a:ext cx="3657600" cy="3387600"/>
              </a:xfrm>
              <a:prstGeom prst="rect">
                <a:avLst/>
              </a:prstGeom>
              <a:solidFill>
                <a:srgbClr val="1416c7">
                  <a:alpha val="16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762520" y="4640400"/>
              <a:ext cx="2892600" cy="1326960"/>
              <a:chOff x="5762520" y="4640400"/>
              <a:chExt cx="2892600" cy="1326960"/>
            </a:xfrm>
          </p:grpSpPr>
          <p:sp>
            <p:nvSpPr>
              <p:cNvPr id="326" name=""/>
              <p:cNvSpPr/>
              <p:nvPr/>
            </p:nvSpPr>
            <p:spPr>
              <a:xfrm>
                <a:off x="6629400" y="4640400"/>
                <a:ext cx="228600" cy="0"/>
              </a:xfrm>
              <a:prstGeom prst="line">
                <a:avLst/>
              </a:prstGeom>
              <a:ln w="25560">
                <a:solidFill>
                  <a:srgbClr val="ffc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426520" y="4648320"/>
                <a:ext cx="228600" cy="75960"/>
              </a:xfrm>
              <a:prstGeom prst="rect">
                <a:avLst/>
              </a:prstGeom>
              <a:solidFill>
                <a:srgbClr val="ffc8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762520" y="5967360"/>
                <a:ext cx="228600" cy="0"/>
              </a:xfrm>
              <a:prstGeom prst="line">
                <a:avLst/>
              </a:prstGeom>
              <a:ln w="25560">
                <a:solidFill>
                  <a:srgbClr val="ffc8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3302640" y="317520"/>
            <a:ext cx="2945880" cy="3057480"/>
            <a:chOff x="3302640" y="317520"/>
            <a:chExt cx="2945880" cy="3057480"/>
          </a:xfrm>
        </p:grpSpPr>
        <p:pic>
          <p:nvPicPr>
            <p:cNvPr id="330" name="" descr=""/>
            <p:cNvPicPr/>
            <p:nvPr/>
          </p:nvPicPr>
          <p:blipFill>
            <a:blip r:embed="rId4"/>
            <a:srcRect l="7913" t="11462" r="80230" b="20962"/>
            <a:stretch/>
          </p:blipFill>
          <p:spPr>
            <a:xfrm>
              <a:off x="4876920" y="631800"/>
              <a:ext cx="5335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826520" y="3175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AB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5"/>
            <a:srcRect l="23168" t="22489" r="61587" b="43727"/>
            <a:stretch/>
          </p:blipFill>
          <p:spPr>
            <a:xfrm>
              <a:off x="5562720" y="1089000"/>
              <a:ext cx="685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6"/>
            <a:srcRect l="7913" t="11462" r="61587" b="20962"/>
            <a:stretch/>
          </p:blipFill>
          <p:spPr>
            <a:xfrm>
              <a:off x="3353040" y="631800"/>
              <a:ext cx="13716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3302640" y="3175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AB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13640" y="8002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BC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37880" y="8096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BC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200400" y="357120"/>
            <a:ext cx="3048120" cy="3048120"/>
          </a:xfrm>
          <a:prstGeom prst="rect">
            <a:avLst/>
          </a:prstGeom>
          <a:solidFill>
            <a:srgbClr val="1416c7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429000" y="2803680"/>
            <a:ext cx="1752480" cy="75960"/>
            <a:chOff x="3429000" y="2803680"/>
            <a:chExt cx="1752480" cy="75960"/>
          </a:xfrm>
        </p:grpSpPr>
        <p:sp>
          <p:nvSpPr>
            <p:cNvPr id="339" name=""/>
            <p:cNvSpPr/>
            <p:nvPr/>
          </p:nvSpPr>
          <p:spPr>
            <a:xfrm>
              <a:off x="3429000" y="2803680"/>
              <a:ext cx="228600" cy="75960"/>
            </a:xfrm>
            <a:prstGeom prst="rect">
              <a:avLst/>
            </a:prstGeom>
            <a:solidFill>
              <a:srgbClr val="e3d9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52880" y="2803680"/>
              <a:ext cx="228600" cy="75960"/>
            </a:xfrm>
            <a:prstGeom prst="rect">
              <a:avLst/>
            </a:prstGeom>
            <a:solidFill>
              <a:srgbClr val="e3d9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172520" y="1171440"/>
            <a:ext cx="2131560" cy="580680"/>
            <a:chOff x="1172520" y="1171440"/>
            <a:chExt cx="2131560" cy="580680"/>
          </a:xfrm>
        </p:grpSpPr>
        <p:sp>
          <p:nvSpPr>
            <p:cNvPr id="342" name=""/>
            <p:cNvSpPr/>
            <p:nvPr/>
          </p:nvSpPr>
          <p:spPr>
            <a:xfrm>
              <a:off x="1172520" y="1171440"/>
              <a:ext cx="2131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1416c7"/>
                  </a:solidFill>
                  <a:latin typeface="Palatino"/>
                </a:rPr>
                <a:t>Metafase nor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1416c7"/>
                  </a:solidFill>
                  <a:latin typeface="Palatino"/>
                </a:rPr>
                <a:t>BAC di AB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1523880"/>
              <a:ext cx="228600" cy="76320"/>
            </a:xfrm>
            <a:prstGeom prst="rect">
              <a:avLst/>
            </a:prstGeom>
            <a:solidFill>
              <a:srgbClr val="e3d9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159080" y="1539720"/>
            <a:ext cx="1752840" cy="76320"/>
            <a:chOff x="4159080" y="1539720"/>
            <a:chExt cx="1752840" cy="76320"/>
          </a:xfrm>
        </p:grpSpPr>
        <p:sp>
          <p:nvSpPr>
            <p:cNvPr id="345" name=""/>
            <p:cNvSpPr/>
            <p:nvPr/>
          </p:nvSpPr>
          <p:spPr>
            <a:xfrm>
              <a:off x="4159080" y="1539720"/>
              <a:ext cx="228600" cy="76320"/>
            </a:xfrm>
            <a:prstGeom prst="rect">
              <a:avLst/>
            </a:prstGeom>
            <a:solidFill>
              <a:srgbClr val="ffc8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3320" y="1539720"/>
              <a:ext cx="228600" cy="76320"/>
            </a:xfrm>
            <a:prstGeom prst="rect">
              <a:avLst/>
            </a:prstGeom>
            <a:solidFill>
              <a:srgbClr val="ffc8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144840" y="1171440"/>
            <a:ext cx="2131560" cy="580680"/>
            <a:chOff x="6144840" y="1171440"/>
            <a:chExt cx="2131560" cy="580680"/>
          </a:xfrm>
        </p:grpSpPr>
        <p:sp>
          <p:nvSpPr>
            <p:cNvPr id="348" name=""/>
            <p:cNvSpPr/>
            <p:nvPr/>
          </p:nvSpPr>
          <p:spPr>
            <a:xfrm>
              <a:off x="6144840" y="1171440"/>
              <a:ext cx="2131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1416c7"/>
                  </a:solidFill>
                  <a:latin typeface="Palatino"/>
                </a:rPr>
                <a:t>Metafase nor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1416c7"/>
                  </a:solidFill>
                  <a:latin typeface="Palatino"/>
                </a:rPr>
                <a:t>BAC di B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0120" y="1523880"/>
              <a:ext cx="228600" cy="76320"/>
            </a:xfrm>
            <a:prstGeom prst="rect">
              <a:avLst/>
            </a:prstGeom>
            <a:solidFill>
              <a:srgbClr val="ffc8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-61560" y="3124080"/>
            <a:ext cx="3719160" cy="3733920"/>
            <a:chOff x="-61560" y="3124080"/>
            <a:chExt cx="3719160" cy="3733920"/>
          </a:xfrm>
        </p:grpSpPr>
        <p:grpSp>
          <p:nvGrpSpPr>
            <p:cNvPr id="351" name=""/>
            <p:cNvGrpSpPr/>
            <p:nvPr/>
          </p:nvGrpSpPr>
          <p:grpSpPr>
            <a:xfrm>
              <a:off x="-61560" y="3124080"/>
              <a:ext cx="3719160" cy="3733920"/>
              <a:chOff x="-61560" y="3124080"/>
              <a:chExt cx="3719160" cy="373392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-61560" y="3429000"/>
                <a:ext cx="3719160" cy="3429000"/>
                <a:chOff x="-61560" y="3429000"/>
                <a:chExt cx="3719160" cy="342900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2235600" y="3429000"/>
                  <a:ext cx="1422000" cy="3057480"/>
                  <a:chOff x="2235600" y="3429000"/>
                  <a:chExt cx="1422000" cy="3057480"/>
                </a:xfrm>
              </p:grpSpPr>
              <p:pic>
                <p:nvPicPr>
                  <p:cNvPr id="354" name="" descr=""/>
                  <p:cNvPicPr/>
                  <p:nvPr/>
                </p:nvPicPr>
                <p:blipFill>
                  <a:blip r:embed="rId7"/>
                  <a:srcRect l="7913" t="11462" r="61587" b="20962"/>
                  <a:stretch/>
                </p:blipFill>
                <p:spPr>
                  <a:xfrm>
                    <a:off x="2286000" y="3743280"/>
                    <a:ext cx="1371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5" name=""/>
                  <p:cNvSpPr/>
                  <p:nvPr/>
                </p:nvSpPr>
                <p:spPr>
                  <a:xfrm>
                    <a:off x="2235600" y="3429000"/>
                    <a:ext cx="5007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Palatino"/>
                      </a:rPr>
                      <a:t>AB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946600" y="3911400"/>
                    <a:ext cx="5007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Palatino"/>
                      </a:rPr>
                      <a:t>BC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-61560" y="3429000"/>
                  <a:ext cx="2142720" cy="3429000"/>
                  <a:chOff x="-61560" y="3429000"/>
                  <a:chExt cx="2142720" cy="3429000"/>
                </a:xfrm>
              </p:grpSpPr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rcRect l="55371" t="11462" r="5653" b="11579"/>
                  <a:stretch/>
                </p:blipFill>
                <p:spPr>
                  <a:xfrm>
                    <a:off x="285840" y="3733920"/>
                    <a:ext cx="17524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9" name=""/>
                  <p:cNvSpPr/>
                  <p:nvPr/>
                </p:nvSpPr>
                <p:spPr>
                  <a:xfrm>
                    <a:off x="-61560" y="3429000"/>
                    <a:ext cx="1247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Palatino"/>
                      </a:rPr>
                      <a:t>ABL / BCR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33760" y="3886200"/>
                    <a:ext cx="1247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Palatino"/>
                      </a:rPr>
                      <a:t>BCR / ABL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1" name=""/>
              <p:cNvSpPr/>
              <p:nvPr/>
            </p:nvSpPr>
            <p:spPr>
              <a:xfrm>
                <a:off x="0" y="3470400"/>
                <a:ext cx="3657600" cy="3387600"/>
              </a:xfrm>
              <a:prstGeom prst="rect">
                <a:avLst/>
              </a:prstGeom>
              <a:solidFill>
                <a:srgbClr val="1416c7">
                  <a:alpha val="16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0600" y="3124080"/>
                <a:ext cx="2131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600" spc="-1" strike="noStrike">
                    <a:solidFill>
                      <a:srgbClr val="1416c7"/>
                    </a:solidFill>
                    <a:latin typeface="Palatino"/>
                  </a:rPr>
                  <a:t>Split </a:t>
                </a:r>
                <a:r>
                  <a:rPr b="0" lang="it-IT" sz="1600" spc="-1" strike="noStrike">
                    <a:solidFill>
                      <a:srgbClr val="1416c7"/>
                    </a:solidFill>
                    <a:latin typeface="Palatino"/>
                  </a:rPr>
                  <a:t>BAC di AB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428760" y="4680000"/>
              <a:ext cx="2162160" cy="1307880"/>
              <a:chOff x="428760" y="4680000"/>
              <a:chExt cx="2162160" cy="1307880"/>
            </a:xfrm>
          </p:grpSpPr>
          <p:sp>
            <p:nvSpPr>
              <p:cNvPr id="364" name=""/>
              <p:cNvSpPr/>
              <p:nvPr/>
            </p:nvSpPr>
            <p:spPr>
              <a:xfrm>
                <a:off x="1295280" y="4680000"/>
                <a:ext cx="228600" cy="0"/>
              </a:xfrm>
              <a:prstGeom prst="line">
                <a:avLst/>
              </a:prstGeom>
              <a:ln w="25560">
                <a:solidFill>
                  <a:srgbClr val="e3d9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362320" y="5911920"/>
                <a:ext cx="228600" cy="75960"/>
              </a:xfrm>
              <a:prstGeom prst="rect">
                <a:avLst/>
              </a:prstGeom>
              <a:solidFill>
                <a:srgbClr val="e3d91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28760" y="5927760"/>
                <a:ext cx="228600" cy="0"/>
              </a:xfrm>
              <a:prstGeom prst="line">
                <a:avLst/>
              </a:prstGeom>
              <a:ln w="25560">
                <a:solidFill>
                  <a:srgbClr val="e3d9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7T08:35:15Z</dcterms:created>
  <dc:creator>Mariano  Rocchi</dc:creator>
  <dc:description/>
  <dc:language>en-US</dc:language>
  <cp:lastModifiedBy>segre2</cp:lastModifiedBy>
  <dcterms:modified xsi:type="dcterms:W3CDTF">2005-05-09T08:38:58Z</dcterms:modified>
  <cp:revision>101</cp:revision>
  <dc:subject/>
  <dc:title>CITOGENETICA &amp;  BIOINFORMATICA </dc:title>
</cp:coreProperties>
</file>