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74D-CA0F-4DD9-B76F-9272E45C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16B-DCA5-4EE1-8223-93B1CBEE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B63-1EEE-4B76-B544-E33C07BF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7E2-F625-4231-B055-C1E09FDE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909-149C-4616-BF1D-D8222609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21A-6FEB-4217-86EF-571CCD90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C7D-0280-40E4-8F1D-3543747D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504-8415-4E7B-9AC0-107DE022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400-1087-4A1D-AF4A-137FF8F8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AF5-52ED-47A5-8500-D82E3B2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10E-0EE2-45C5-AB7F-8A05070C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C9E-5C80-4F34-87EB-BD8350B6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3423-FB28-486B-93E0-F2D672CDE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cbi.nlm.nih.gov/About/tools/" TargetMode="External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hyperlink" Target="file:///BioinfoWebFolder/1_NCBI.html" TargetMode="External"/><Relationship Id="rId6" Type="http://schemas.openxmlformats.org/officeDocument/2006/relationships/image" Target="../media/image5.pct"/><Relationship Id="rId7" Type="http://schemas.openxmlformats.org/officeDocument/2006/relationships/hyperlink" Target="file:///BioinfoWebFolder/2_Ensembl.html" TargetMode="External"/><Relationship Id="rId8" Type="http://schemas.openxmlformats.org/officeDocument/2006/relationships/image" Target="../media/image5.pct"/><Relationship Id="rId9" Type="http://schemas.openxmlformats.org/officeDocument/2006/relationships/hyperlink" Target="file:///BioinfoWebFolder/3_hgGateway.html" TargetMode="External"/><Relationship Id="rId10" Type="http://schemas.openxmlformats.org/officeDocument/2006/relationships/image" Target="../media/image5.pct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cbi.nlm.nih.gov/blast/bl2seq/bl2.html" TargetMode="External"/><Relationship Id="rId3" Type="http://schemas.openxmlformats.org/officeDocument/2006/relationships/hyperlink" Target="http://menu.hgmp.mrc.ac.uk/menu-bin/Nix/Nix.pl" TargetMode="External"/><Relationship Id="rId4" Type="http://schemas.openxmlformats.org/officeDocument/2006/relationships/hyperlink" Target="http://menu.hgmp.mrc.ac.uk/menu-bin/Nix/Nix.pl" TargetMode="External"/><Relationship Id="rId5" Type="http://schemas.openxmlformats.org/officeDocument/2006/relationships/hyperlink" Target="http://frodo.wi.mit.edu/cgi-bin/primer3/primer3_www.cgi" TargetMode="External"/><Relationship Id="rId6" Type="http://schemas.openxmlformats.org/officeDocument/2006/relationships/hyperlink" Target="http://frodo.wi.mit.edu/cgi-bin/primer3/primer3_www.cgi" TargetMode="External"/><Relationship Id="rId7" Type="http://schemas.openxmlformats.org/officeDocument/2006/relationships/hyperlink" Target="http://frodo.wi.mit.edu/cgi-bin/primer3/primer3_www.cgi" TargetMode="External"/><Relationship Id="rId8" Type="http://schemas.openxmlformats.org/officeDocument/2006/relationships/image" Target="../media/image6.pct"/><Relationship Id="rId9" Type="http://schemas.openxmlformats.org/officeDocument/2006/relationships/image" Target="../media/image5.pct"/><Relationship Id="rId10" Type="http://schemas.openxmlformats.org/officeDocument/2006/relationships/image" Target="../media/image5.pct"/><Relationship Id="rId11" Type="http://schemas.openxmlformats.org/officeDocument/2006/relationships/image" Target="../media/image5.pct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360" y="2544840"/>
            <a:ext cx="916308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1250"/>
              </a:spcBef>
              <a:buClr>
                <a:srgbClr val="1416c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Times New Roman"/>
              </a:rPr>
              <a:t>concettualizzare la vita</a:t>
            </a:r>
            <a:r>
              <a:rPr b="0" lang="it-IT" sz="2000" spc="-1" strike="noStrike">
                <a:solidFill>
                  <a:srgbClr val="1416c7"/>
                </a:solidFill>
                <a:latin typeface="Times New Roman"/>
              </a:rPr>
              <a:t> (in termini biologici, non filosofici)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Times New Roman"/>
              </a:rPr>
              <a:t>come</a:t>
            </a:r>
            <a:r>
              <a:rPr b="0" lang="it-IT" sz="2000" spc="-1" strike="noStrike">
                <a:solidFill>
                  <a:srgbClr val="1416c7"/>
                </a:solidFill>
                <a:latin typeface="Times New Roman"/>
              </a:rPr>
              <a:t> funzione e interazione di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Times New Roman"/>
              </a:rPr>
              <a:t>molecole semplici</a:t>
            </a:r>
            <a:r>
              <a:rPr b="0" lang="it-IT" sz="2000" spc="-1" strike="noStrike">
                <a:solidFill>
                  <a:srgbClr val="1416c7"/>
                </a:solidFill>
                <a:latin typeface="Times New Roman"/>
              </a:rPr>
              <a:t> (dalla Fisica chimic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1416c7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Times New Roman"/>
              </a:rPr>
              <a:t>estrarre e organizzare l’informazione associata</a:t>
            </a:r>
            <a:r>
              <a:rPr b="0" lang="it-IT" sz="2000" spc="-1" strike="noStrike">
                <a:solidFill>
                  <a:srgbClr val="1416c7"/>
                </a:solidFill>
                <a:latin typeface="Times New Roman"/>
              </a:rPr>
              <a:t> con queste molecole, applicando tecniche informatiche su larga scala (principi di matematica applicata, scienze informatiche e statis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46200" y="5170320"/>
            <a:ext cx="6811920" cy="13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416c7"/>
                </a:solidFill>
                <a:latin typeface="Times New Roman"/>
              </a:rPr>
              <a:t>In breve, la bioinformatica è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a0000"/>
                </a:solidFill>
                <a:latin typeface="Times New Roman"/>
              </a:rPr>
              <a:t>sistema di </a:t>
            </a:r>
            <a:r>
              <a:rPr b="1" i="1" lang="it-IT" sz="2000" spc="-1" strike="noStrike">
                <a:solidFill>
                  <a:srgbClr val="ca0000"/>
                </a:solidFill>
                <a:latin typeface="Times New Roman"/>
              </a:rPr>
              <a:t>management</a:t>
            </a:r>
            <a:r>
              <a:rPr b="1" lang="it-IT" sz="2000" spc="-1" strike="noStrike">
                <a:solidFill>
                  <a:srgbClr val="ca0000"/>
                </a:solidFill>
                <a:latin typeface="Times New Roman"/>
              </a:rPr>
              <a:t> dell’informazione</a:t>
            </a:r>
            <a:r>
              <a:rPr b="1" lang="it-IT" sz="2000" spc="-1" strike="noStrike">
                <a:solidFill>
                  <a:srgbClr val="1416c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416c7"/>
                </a:solidFill>
                <a:latin typeface="Times New Roman"/>
              </a:rPr>
              <a:t>per la biologia molecolare e le scienze correlate.</a:t>
            </a:r>
            <a:r>
              <a:rPr b="0" lang="it-IT" sz="2400" spc="-1" strike="noStrike">
                <a:solidFill>
                  <a:srgbClr val="1416c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1520" y="685800"/>
            <a:ext cx="2436840" cy="1687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56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1416c7"/>
                </a:solidFill>
                <a:uFillTx/>
                <a:latin typeface="Times New Roman"/>
              </a:rPr>
              <a:t>Bio</a:t>
            </a:r>
            <a:r>
              <a:rPr b="1" lang="it-IT" sz="3600" spc="-1" strike="noStrike">
                <a:solidFill>
                  <a:srgbClr val="1416c7"/>
                </a:solidFill>
                <a:latin typeface="Times New Roman"/>
              </a:rPr>
              <a:t> +</a:t>
            </a:r>
            <a:r>
              <a:rPr b="0" lang="it-IT" sz="3600" spc="-1" strike="noStrike">
                <a:solidFill>
                  <a:srgbClr val="1416c7"/>
                </a:solidFill>
                <a:latin typeface="Times New Roman"/>
              </a:rPr>
              <a:t> </a:t>
            </a:r>
            <a:r>
              <a:rPr b="1" lang="it-IT" sz="3600" spc="-1" strike="noStrike" u="sng">
                <a:solidFill>
                  <a:srgbClr val="1416c7"/>
                </a:solidFill>
                <a:uFillTx/>
                <a:latin typeface="Times New Roman"/>
              </a:rPr>
              <a:t>Inform</a:t>
            </a:r>
            <a:r>
              <a:rPr b="1" lang="it-IT" sz="3600" spc="-1" strike="noStrike">
                <a:solidFill>
                  <a:srgbClr val="1416c7"/>
                </a:solidFill>
                <a:latin typeface="Times New Roman"/>
              </a:rPr>
              <a:t> + atica</a:t>
            </a:r>
            <a:r>
              <a:rPr b="0" lang="it-IT" sz="3600" spc="-1" strike="noStrike">
                <a:solidFill>
                  <a:srgbClr val="1416c7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0812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6854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Scopi della bioinforma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9720" y="4957920"/>
            <a:ext cx="8420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3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Fornire un’interpretazione biologica di “astratte”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elaborazioni matematiche e statist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3840" y="3676680"/>
            <a:ext cx="7590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2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Sviluppare strumenti e risorse utili all’analisi de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9200" y="1828800"/>
            <a:ext cx="90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1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Organizzare i dati in modo che ogni ricercatore possa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accedere alle informazioni esistenti, consultare i dati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presenti e immettere i risultati dei propri esperim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29800" y="2952720"/>
            <a:ext cx="58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anche dati e strumenti di consul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99560" y="417204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Algoritmi di 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14320" y="5772240"/>
            <a:ext cx="64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iologo   +   Informatico   =   Bioinfor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07920" y="1569960"/>
            <a:ext cx="91220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: “conservare” tutti 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CBI l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ncbi.nlm.nih.gov/About/too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OMIM, Un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s: “estrarre” solo i dati vol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I’s Ensembl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nsembl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CSC Genome Bioinformatics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enome.ucsc.edu/cgi-bin/hgGate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204"/>
                </a:solidFill>
                <a:latin typeface="Times New Roman"/>
              </a:rPr>
              <a:t>Gestire i dati: “bank” e “brows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3520" y="2133720"/>
            <a:ext cx="1017360" cy="66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1079640" cy="92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997840" y="2724120"/>
            <a:ext cx="908280" cy="704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997840" y="4800600"/>
            <a:ext cx="908280" cy="704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997840" y="5791320"/>
            <a:ext cx="908280" cy="70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0" y="3022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0" y="5079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0" y="6070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812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7800" y="2590920"/>
            <a:ext cx="8172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ncbi.nlm.nih.gov/blast/bl2seq/bl2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menu.hgmp.mrc.ac.uk/menu-bin/Nix/Nix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assword requir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frodo.wi.mit.edu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7280" y="1294920"/>
            <a:ext cx="454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204"/>
                </a:solidFill>
                <a:latin typeface="Times New Roman"/>
              </a:rPr>
              <a:t>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2641680" y="685800"/>
            <a:ext cx="2004840" cy="227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7346880" y="2895480"/>
            <a:ext cx="908280" cy="704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492680" y="3114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7346880" y="4038480"/>
            <a:ext cx="908280" cy="704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492680" y="43257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4292640" y="5715000"/>
            <a:ext cx="907920" cy="70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38440" y="5994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Web supple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8720" y="2743200"/>
            <a:ext cx="9327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6c8"/>
                </a:solidFill>
                <a:latin typeface="Times New Roman"/>
              </a:rPr>
              <a:t>HGP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genome.gov/Pages/Education/Kit/main.cf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65240" y="6457680"/>
            <a:ext cx="957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55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5566"/>
                </a:solidFill>
                <a:latin typeface="Times New Roman"/>
              </a:rPr>
              <a:t>* L’obiettivo dichiarato dell’HGP è la determinazione della sola porzione eucromatica del genoma. Telomeri, centromeri, e altre regioni eterocromatiche rimangono indeterminate, come anche un piccolo numero di “gap” inclonabi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416c8"/>
                </a:solidFill>
                <a:latin typeface="Times New Roman"/>
              </a:rPr>
              <a:t>Il genoma in “numeri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77800" y="1079640"/>
          <a:ext cx="8915400" cy="5397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1079640"/>
                    <a:ext cx="8915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7:13:29Z</dcterms:created>
  <dc:creator>Pietro D'Addabbo</dc:creator>
  <dc:description/>
  <dc:language>en-US</dc:language>
  <cp:lastModifiedBy>Mariano  Rocchi</cp:lastModifiedBy>
  <dcterms:modified xsi:type="dcterms:W3CDTF">2005-05-09T14:22:29Z</dcterms:modified>
  <cp:revision>332</cp:revision>
  <dc:subject/>
  <dc:title>Genetica e Genomica e Bioinformatica</dc:title>
</cp:coreProperties>
</file>